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F1F-B029-45AD-8FB9-1DE020AB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B60-7EC1-49EB-970A-F4F7513E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0EB-58EF-4FC9-83A8-0A04D973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7B4-E1B6-431A-93A3-C5959C59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9A8-4161-48B1-A97C-D4B44E0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163-6699-48FD-A419-0D5541BA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99F-1F17-409C-BD7A-354E39BF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A49-9528-4D8C-8CFC-30F02DC8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C82-DE5B-4301-A69D-4254F9BC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F1A-B593-4B3B-AC52-15D7BDC0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DEC-5C50-4D11-A44D-BF5148E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30B-81D4-4377-87AA-75D4EB5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66E-6BA3-46DE-B97C-8D94A3943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crp-cordex.ipsl.jussieu.fr/" TargetMode="External"/><Relationship Id="rId2" Type="http://schemas.openxmlformats.org/officeDocument/2006/relationships/hyperlink" Target="http://wcrp-cordex.ipsl.jussieu.fr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CRP Working Gro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Regional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87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35080" y="1346040"/>
            <a:ext cx="54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-chairs: Clare Goodess and Bruce Hewi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17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acilitate coordination of WCRP research activities relevant to the provision of regional climate information and relat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m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egrate the regional user and decision maker context into the design and development of regional climate science throug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wo-way communication and co-produc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rengthen the role of regional climate science activity within the WCRP with research results communicated effectively to, or where possib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in partnership with, climate service instit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recommendations regarding the provision and communication of information for regional impact assessment, decision making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mate services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acilitate, in co-operation with other relevant international organisations, the provision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d practice gui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otential users on the identification, selection, processing, application and interpretation of regional clim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960" y="20178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our Terms of Re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0760" y="6490440"/>
            <a:ext cx="74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crp-climate.org/index.php/key-deleverables/regional-clima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10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versee specific WCRP regional climate research initiatives including the Coordinated Regional Downscaling Experiment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2960" y="1599480"/>
            <a:ext cx="34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crp-cordex.ipsl.jussieu.fr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9120" y="190440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rdex2013.wcrp-climate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362320"/>
            <a:ext cx="906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ster communication between the WCRP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F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uture Earth, and to serve as the point of contact between the WCRP and regional climate information/service entities such as the Climate Services Partnership (C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5760" y="579060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gfcs-climate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5600" y="63237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climate-services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9480" y="3483000"/>
            <a:ext cx="4562640" cy="337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743200" y="1371600"/>
            <a:ext cx="233028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re Goodess</cp:lastModifiedBy>
  <dcterms:modified xsi:type="dcterms:W3CDTF">2013-07-09T13:00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