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1F4-775B-4B04-92CB-FEA6CD1B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332-DF83-4CEF-BAC3-47FEE3C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C6E-DFE1-42C3-B349-9B7C233A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0F8-BF64-4E55-9008-2A632BB1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066-A1B0-4EE6-9F17-AD8EE653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B92-DF44-446D-BCE5-7AA8A412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441-9B73-4456-88CC-3E813126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53A-CDD9-43D5-B672-407A923C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BD6-1735-4D38-ACB6-3EDBDC3F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76B-6B71-4D42-B88F-BDC77CB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471-7D97-4E7F-A55F-E2C02E8D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E2E-A84C-42C4-B55E-C201EB87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88FB-2772-455E-922C-000166166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crp-cordex.ipsl.jussieu.fr/" TargetMode="External"/><Relationship Id="rId2" Type="http://schemas.openxmlformats.org/officeDocument/2006/relationships/hyperlink" Target="http://wcrp-cordex.ipsl.jussieu.fr/" TargetMode="Externa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CRP Working Grou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Regional Cl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87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35080" y="134604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-chairs: Clare Goodess and Bruce Hewit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 coordination of WCRP research activities relevant to the provision of regional climate information and rela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egrate the regional user and decision maker context into the design and development of regional climate scienc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-way communication and co-produc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trengthen the role of regional climate science activity within the WCRP with research results communicated effectively to, or where possibl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igned in partnership with, climate service instit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recommendations regarding the provision and communication of information for regional impact assessment, decision ma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imate services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acilitate, in co-operation with other relevant international organisations, the provision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d practice guid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potential users on the identification, selection, processing, application and interpretation of regional clim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960" y="20178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our Terms of Refe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760" y="6490440"/>
            <a:ext cx="74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crp-climate.org/index.php/key-deleverables/regional-clima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0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versee specific WCRP regional climate research initiatives including the Coordinated Regional Downscaling Experiment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12960" y="1599480"/>
            <a:ext cx="34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crp-cordex.ipsl.jussieu.fr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9120" y="190440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rdex2013.wcrp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362320"/>
            <a:ext cx="906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ster communication between the WCRP an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F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uture Earth, and to serve as the point of contact between the WCRP and regional climate information/service entities such as the Climate Services Partnership (C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5760" y="5790600"/>
            <a:ext cx="29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gfcs-climate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63237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climate-services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3483000"/>
            <a:ext cx="4562640" cy="337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3302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lare Goodess</cp:lastModifiedBy>
  <dcterms:modified xsi:type="dcterms:W3CDTF">2013-07-09T13:00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