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87F-47D1-46B0-8570-F9C1172D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561-24DB-42A4-BE0E-231C870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3E4-BE2A-4091-8602-51BC2B74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47F-A16E-4DF0-B03C-5FB7684F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882-F7A6-4583-B101-46DAB37A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DD0-56AD-4866-98E5-92D5AE46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ACA-12DF-4093-842F-4E4D6CD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8E3-4FA2-400F-A37A-9574727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BAA-C69B-4E5B-8CD0-AF2FCC37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374-E5B6-460C-B4B2-9611276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D1A-3A03-4556-A55A-85E17968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733-DB59-48AD-911D-E963C99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F34-8BEF-411E-940D-79FA5A305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crp-cordex.ipsl.jussieu.fr/" TargetMode="External"/><Relationship Id="rId2" Type="http://schemas.openxmlformats.org/officeDocument/2006/relationships/hyperlink" Target="http://wcrp-cordex.ipsl.jussieu.fr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CRP Working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Regional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5080" y="134604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chairs: Clare Goodess and Bruce Hewi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 coordination of WCRP research activities relevant to the provision of regional climate information and rela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grate the regional user and decision maker context into the design and development of regional climate scienc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-way communication and co-produc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rengthen the role of regional climate science activity within the WCRP with research results communicated effectively to, or where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in partnership with, climate service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recommendations regarding the provision and communication of information for regional impact assessment, decision ma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, in co-operation with other relevant international organisations, the provis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d practice 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otential users on the identification, selection, processing, application and interpretation of regional clim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960" y="20178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our Terms of Re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760" y="649044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crp-climate.org/index.php/key-deleverables/regional-clima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0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versee specific WCRP regional climate research initiatives including the Coordinated Regional Downscaling Experiment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2960" y="1599480"/>
            <a:ext cx="34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crp-cordex.ipsl.jussieu.fr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9120" y="190440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rdex2013.wcrp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62320"/>
            <a:ext cx="906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ster communication between the WCRP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F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uture Earth, and to serve as the point of contact between the WCRP and regional climate information/service entities such as the Climate Services Partnership (C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5760" y="57906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gfcs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63237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climate-servic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3483000"/>
            <a:ext cx="4562640" cy="33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3302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Goodess</cp:lastModifiedBy>
  <dcterms:modified xsi:type="dcterms:W3CDTF">2013-07-09T13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