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A21-578F-4D3C-8727-8DD2A206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088-9398-4245-B751-69DC9114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029-BEBF-4DD5-820E-86FDD7E9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ADA-3B64-49C4-96B1-4DBAB762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59A-013D-4494-8AF9-E3E0D99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9E3-503D-4049-B013-656AFDE7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04D-39E7-497F-8D75-D5743BF8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1B5-98D1-440B-8DFE-2C0DE026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275-EEF3-4F3E-86F7-1CAD257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9F8-B5B6-4676-A720-0E31B4F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FAF-1505-42B9-A3F8-E5DE6BC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344-F5F1-45FD-9E0E-62002DD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BD22-2463-485E-84F7-D2B9F1E3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crp-cordex.ipsl.jussieu.fr/" TargetMode="External"/><Relationship Id="rId2" Type="http://schemas.openxmlformats.org/officeDocument/2006/relationships/hyperlink" Target="http://wcrp-cordex.ipsl.jussieu.fr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CRP Working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Regional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5080" y="134604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chairs: Clare Goodess and Bruce Hewi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 coordination of WCRP research activities relevant to the provision of regional climate information and rela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grate the regional user and decision maker context into the design and development of regional climate scienc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-way communication and co-produc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rengthen the role of regional climate science activity within the WCRP with research results communicated effectively to, or where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in partnership with, climate service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recommendations regarding the provision and communication of information for regional impact assessment, decision ma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, in co-operation with other relevant international organisations, the provis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d practice 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otential users on the identification, selection, processing, application and interpretation of regional clim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960" y="20178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our Terms of Re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760" y="649044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crp-climate.org/index.php/key-deleverables/regional-clima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0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versee specific WCRP regional climate research initiatives including the Coordinated Regional Downscaling Experiment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2960" y="1599480"/>
            <a:ext cx="34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crp-cordex.ipsl.jussieu.fr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9120" y="190440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rdex2013.wcrp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62320"/>
            <a:ext cx="906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ster communication between the WCRP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F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uture Earth, and to serve as the point of contact between the WCRP and regional climate information/service entities such as the Climate Services Partnership (C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5760" y="57906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gfcs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63237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climate-servic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3483000"/>
            <a:ext cx="4562640" cy="33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3302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Goodess</cp:lastModifiedBy>
  <dcterms:modified xsi:type="dcterms:W3CDTF">2013-07-09T13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