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2160" y="253800"/>
            <a:ext cx="9074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20" y="6477120"/>
            <a:ext cx="9523440" cy="56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360" y="6578640"/>
            <a:ext cx="972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LIM-RUN Meeting –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Panel discussion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9 Junly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11200" y="0"/>
            <a:ext cx="3094920" cy="465120"/>
            <a:chOff x="6811200" y="0"/>
            <a:chExt cx="3094920" cy="465120"/>
          </a:xfrm>
        </p:grpSpPr>
        <p:sp>
          <p:nvSpPr>
            <p:cNvPr id="6" name=""/>
            <p:cNvSpPr/>
            <p:nvPr/>
          </p:nvSpPr>
          <p:spPr>
            <a:xfrm>
              <a:off x="6811200" y="115920"/>
              <a:ext cx="2570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900" spc="-1" strike="noStrike">
                  <a:solidFill>
                    <a:srgbClr val="000000"/>
                  </a:solidFill>
                  <a:latin typeface="Arial"/>
                </a:rPr>
                <a:t>INSTITUT CATALÀ DE CIÈNCIES DEL CLI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>
              <a:lum contrast="24000"/>
            </a:blip>
            <a:srcRect l="2171" t="3036" r="13026" b="3036"/>
            <a:stretch/>
          </p:blipFill>
          <p:spPr>
            <a:xfrm>
              <a:off x="9329760" y="0"/>
              <a:ext cx="576360" cy="4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3"/>
          <a:srcRect l="12951" t="0" r="12951" b="40404"/>
          <a:stretch/>
        </p:blipFill>
        <p:spPr>
          <a:xfrm>
            <a:off x="8974080" y="485640"/>
            <a:ext cx="932040" cy="2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080" y="277560"/>
            <a:ext cx="90457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CO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8240" y="907920"/>
            <a:ext cx="9585360" cy="555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ropean Climate Observations, Modelling and Services (ECOMS) initiative with these objectiv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5520" indent="-488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sure close coordination between projects and activities in Europe in the area of seasonal to decadal climate predictions towards climat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5520" indent="-488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 thought leadership to the European Commission on future priorities in the area of seasonal to decadal climate predictions towards climate serv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ree EU projects are the core of ECOMS: EUPORIAS, NACLIM and SPECS, with a total funding of 26 Meur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EU projects related to climate research and climate services are part of ECOM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080" y="277560"/>
            <a:ext cx="90457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COMS and GF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48040" y="1260360"/>
            <a:ext cx="5810040" cy="504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2520" y="2889360"/>
            <a:ext cx="3105360" cy="1665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483240" y="2394000"/>
            <a:ext cx="2205000" cy="13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3960" y="1989000"/>
            <a:ext cx="1844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UP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57880" y="4238640"/>
            <a:ext cx="3105000" cy="1665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64320" y="5092560"/>
            <a:ext cx="121464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88240" y="5589720"/>
            <a:ext cx="1844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52520" y="4233960"/>
            <a:ext cx="3105360" cy="1665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73240" y="5003640"/>
            <a:ext cx="107928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7520" y="5543640"/>
            <a:ext cx="1844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080" y="277560"/>
            <a:ext cx="90457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FCS and WCRP (note this is resear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528"/>
          <a:stretch/>
        </p:blipFill>
        <p:spPr>
          <a:xfrm>
            <a:off x="1306440" y="896760"/>
            <a:ext cx="729144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969320" y="1449360"/>
            <a:ext cx="184464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+ Links to WWRP (S2S, P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240" y="1449360"/>
            <a:ext cx="18446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+ Links to WMO (C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3T17:38:31Z</dcterms:created>
  <dc:creator>F.J. Doblas-Reyes</dc:creator>
  <dc:description/>
  <cp:keywords/>
  <dc:language>en-US</dc:language>
  <cp:lastModifiedBy>Francisco Doblas-Reyes</cp:lastModifiedBy>
  <cp:lastPrinted>2001-09-19T15:15:32Z</cp:lastPrinted>
  <dcterms:modified xsi:type="dcterms:W3CDTF">2013-07-09T07:51:47Z</dcterms:modified>
  <cp:revision>1919</cp:revision>
  <dc:subject/>
  <dc:title>Diapositiva 1</dc:title>
</cp:coreProperties>
</file>