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EEA43-5391-4F60-92D9-39E62704042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4F3D7-FCAD-46BF-8F4D-4E8D2ACA5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8BDF8-DD7D-4D83-8256-166F51A67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61741-5B30-428E-99F3-D1C803FA1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D2F03-A7FA-43CA-9A6F-4F53EA207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5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83274-A8FA-4D34-BB72-6274C681E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75154-973D-48BE-9E6A-8ACEB208F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6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F1613-A21E-4238-A066-F1AB07EE5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84040-3AC2-40FB-9602-C2BD9008A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6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F324F-F712-4DB3-83E0-27E792246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138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7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742ED-DA5E-4570-9E52-3B640374ED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240" y="414324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788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5172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520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824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5172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520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8240" y="483840"/>
            <a:ext cx="75517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6788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8240" y="414324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6788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5172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05200" y="198072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824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5172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05200" y="4143240"/>
            <a:ext cx="24314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8240" y="483840"/>
            <a:ext cx="75517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7880" y="414324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824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7880" y="1980720"/>
            <a:ext cx="368496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8240" y="4143240"/>
            <a:ext cx="7551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814320"/>
            <a:ext cx="440352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80939" r="0" b="0"/>
          <a:stretch/>
        </p:blipFill>
        <p:spPr>
          <a:xfrm>
            <a:off x="304920" y="304920"/>
            <a:ext cx="4403520" cy="6807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rcRect l="65657" t="18093" r="25951" b="72653"/>
          <a:stretch/>
        </p:blipFill>
        <p:spPr>
          <a:xfrm>
            <a:off x="7683480" y="351000"/>
            <a:ext cx="944640" cy="7617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6443640" y="407880"/>
            <a:ext cx="971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800240" y="6423120"/>
            <a:ext cx="12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311880" y="642456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92920" y="115920"/>
            <a:ext cx="1243080" cy="122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96360" y="173160"/>
            <a:ext cx="144360" cy="1149120"/>
          </a:xfrm>
          <a:prstGeom prst="rect">
            <a:avLst/>
          </a:prstGeom>
          <a:solidFill>
            <a:srgbClr val="f88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65657" t="18093" r="25951" b="72653"/>
          <a:stretch/>
        </p:blipFill>
        <p:spPr>
          <a:xfrm>
            <a:off x="8418600" y="1863720"/>
            <a:ext cx="633240" cy="509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415360" y="1397160"/>
            <a:ext cx="57636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8240" y="483840"/>
            <a:ext cx="7551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891a7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891a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98240" y="1980720"/>
            <a:ext cx="755172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6794280" y="64227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100" spc="-1" strike="noStrike">
                <a:solidFill>
                  <a:srgbClr val="59595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alibri"/>
                <a:ea typeface="DejaVu San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00720" y="1989000"/>
            <a:ext cx="43923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500" spc="-1" strike="noStrike">
                <a:solidFill>
                  <a:srgbClr val="1c4853"/>
                </a:solidFill>
                <a:latin typeface="Calibri"/>
                <a:ea typeface="WenQuanYi Zen Hei"/>
              </a:rPr>
              <a:t>WP2 - Task 2.3 : Development of new modeling too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500" spc="-1" strike="noStrike">
                <a:solidFill>
                  <a:srgbClr val="1c4853"/>
                </a:solidFill>
                <a:latin typeface="Calibri"/>
                <a:ea typeface="WenQuanYi Zen Hei"/>
              </a:rPr>
              <a:t>Aerosol radiative effect on the Mediterranean climate : implication for solar ener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11640" y="4680000"/>
            <a:ext cx="339264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WenQuanYi Zen Hei"/>
              </a:rPr>
              <a:t>Samuel Somot (C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WenQuanYi Zen Hei"/>
              </a:rPr>
              <a:t>Pierre Nabat (C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2a6d7d"/>
                </a:solidFill>
                <a:latin typeface="Calibri"/>
                <a:ea typeface="WenQuanYi Zen Hei"/>
              </a:rPr>
              <a:t>Roma, July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8840" y="6208560"/>
            <a:ext cx="33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c00000"/>
                </a:solidFill>
                <a:uFillTx/>
                <a:latin typeface="Arial"/>
              </a:rPr>
              <a:t>http://www.climru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Conclusion and future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360360" y="141120"/>
            <a:ext cx="8712360" cy="72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erosols are key players in Mediterranean climate var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They strongly impact incident shortwave radiation at all the scales: daily event, seasonal cycle, spatial pattern, long-term trends, and probably scenar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erosol-radiation interaction could be (is already ?) taken into account when dealing with solar plant planning or solar energy operation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New Mediterranean aerosol climatology is avail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Modelling aerosol-radiation requires full coupling interactive scheme: RegCM (ICTP) and ALADIN (CNRM) have this modelling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Quasi-operational weather forecast model including interactive dust scheme has been set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ny products from this work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What about interactive aerosols in seasonal forecas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Work on aerosol representation in RCMs ... towards Med-CORDEX-2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s : effect of dust emission parame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7440" y="716040"/>
            <a:ext cx="75438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Effect of changing the dust emission scheme in RegC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case study: 31/10 to 02/11/200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60360" y="1728720"/>
            <a:ext cx="7545240" cy="4957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330880" y="1584360"/>
            <a:ext cx="273348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Nabat et al. 2012, A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973080"/>
            <a:ext cx="7543800" cy="72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891a7"/>
                </a:solidFill>
                <a:latin typeface="Calibri"/>
                <a:ea typeface="Times New Roman"/>
              </a:rPr>
              <a:t>All case study (Morocco, Barcelona, Cyprus, Croati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3920">
              <a:lnSpc>
                <a:spcPct val="100000"/>
              </a:lnSpc>
              <a:spcBef>
                <a:spcPts val="601"/>
              </a:spcBef>
              <a:buClr>
                <a:srgbClr val="c5d0a0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Solar energ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Variable: downward shortwave radiation (direct and diffu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Stakeholder need: improved solar radiation representation in climate models ... taken into account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rea: Mediterranean basin + cas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Temporal horizon: past climate and future climate (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Partners: ICTP, CN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3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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State-of-the-ar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regional climate models include a poor representation of aerosols, often low-resolution (in space and time) clima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Off-line regional chemistry models do exist but feedback on the radiation is not modeliz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Climate tools and products: Energy case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Mediterranean climate and aeros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23720" y="1693800"/>
            <a:ext cx="82170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2440" y="200160"/>
            <a:ext cx="706284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Mediterranean aerosols : strong variability at all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6000" y="1368360"/>
            <a:ext cx="8137440" cy="5184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895320"/>
            <a:ext cx="7543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erosol Optical Depth (AOD, 550 nm), MODIS (Aqu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4032360"/>
            <a:ext cx="21571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891a7"/>
                </a:solidFill>
                <a:latin typeface="Calibri"/>
                <a:ea typeface="Times New Roman"/>
              </a:rPr>
              <a:t>Nabat et al. 2013, 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 new 2003-2009 monthly-mean clima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6000" y="787320"/>
            <a:ext cx="81360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A new Mediterranean aerosol climatology (Nabat et al., 2013, AM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Usable for variability study (2003-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Usable for driving any Med-CORDEX RCM (already tested in ALAD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2960" y="2087640"/>
            <a:ext cx="7564320" cy="42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 radiative effet in ALADIN : 2003-2009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7440" y="644400"/>
            <a:ext cx="75438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Direct effect: absorption and scattering of solar incident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Semi-direct: change in atmosphere circulation and cloud 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Indirect: not taken into account he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6440" y="1890720"/>
            <a:ext cx="7459560" cy="4805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21440" y="6264360"/>
            <a:ext cx="2733480" cy="45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Nabat et al. (in pre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 radiative effet : long-term t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7440" y="716040"/>
            <a:ext cx="75438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The brightening effect since the 80s: decrease in pollution (sulfate) in    Europe leads to an increase in surface shortwave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7280" y="1630440"/>
            <a:ext cx="2921040" cy="412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335640" y="6335640"/>
            <a:ext cx="2733840" cy="45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Nabat et al., EGU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40000" y="1584360"/>
            <a:ext cx="5832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 radiative effet : daily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16000" y="463680"/>
            <a:ext cx="49672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Implementation of a fully interactive dust scheme in ALAD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Case study for 22-29 June 2012: dust event and its radiative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Operational forecasts of Mediterranean dust event for the Charmex field campaign in Summer 2013 (on-g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3359" t="27866" r="13533" b="20688"/>
          <a:stretch/>
        </p:blipFill>
        <p:spPr>
          <a:xfrm>
            <a:off x="0" y="4464000"/>
            <a:ext cx="3095640" cy="2303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13705" t="28341" r="13358" b="20575"/>
          <a:stretch/>
        </p:blipFill>
        <p:spPr>
          <a:xfrm>
            <a:off x="6156360" y="4500720"/>
            <a:ext cx="2952720" cy="2303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13063" t="28023" r="12779" b="20717"/>
          <a:stretch/>
        </p:blipFill>
        <p:spPr>
          <a:xfrm>
            <a:off x="3024360" y="4427640"/>
            <a:ext cx="3240000" cy="237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008000" y="4103640"/>
            <a:ext cx="1079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24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03640" y="4032360"/>
            <a:ext cx="10796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27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56360" y="4103640"/>
            <a:ext cx="1079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891a7"/>
                </a:solidFill>
                <a:latin typeface="Calibri"/>
                <a:ea typeface="Times New Roman"/>
              </a:rPr>
              <a:t>29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rcRect l="13344" t="28343" r="13366" b="21021"/>
          <a:stretch/>
        </p:blipFill>
        <p:spPr>
          <a:xfrm>
            <a:off x="4751280" y="792000"/>
            <a:ext cx="435924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5664" t="8310" r="7943" b="20241"/>
          <a:stretch/>
        </p:blipFill>
        <p:spPr>
          <a:xfrm>
            <a:off x="23760" y="792000"/>
            <a:ext cx="5376960" cy="3527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2440" y="200160"/>
            <a:ext cx="6810480" cy="485640"/>
          </a:xfrm>
          <a:prstGeom prst="rect">
            <a:avLst/>
          </a:prstGeom>
          <a:solidFill>
            <a:srgbClr val="354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  <a:ea typeface="WenQuanYi Zen Hei"/>
              </a:rPr>
              <a:t>Aerosol radiative effet : daily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30920" y="6551640"/>
            <a:ext cx="4968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3e3f67"/>
                </a:solidFill>
                <a:latin typeface="Lucida Sans Unicode"/>
              </a:rPr>
              <a:t>A. Culot, E. Bruhier, Master thesis, 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6320" y="3419640"/>
            <a:ext cx="3105000" cy="720720"/>
          </a:xfrm>
          <a:prstGeom prst="rect">
            <a:avLst/>
          </a:prstGeom>
          <a:noFill/>
          <a:ln w="55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4720" y="1650960"/>
            <a:ext cx="2673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e3f67"/>
                </a:solidFill>
                <a:latin typeface="Lucida Sans Unicode"/>
              </a:rPr>
              <a:t>Fès (Moroc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e3f67"/>
                </a:solidFill>
                <a:latin typeface="Lucida Sans Unicode"/>
              </a:rPr>
              <a:t>23 Jun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81320" y="1225440"/>
            <a:ext cx="1800" cy="2687760"/>
          </a:xfrm>
          <a:prstGeom prst="line">
            <a:avLst/>
          </a:prstGeom>
          <a:ln w="2232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37080" y="2519280"/>
            <a:ext cx="3275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3e3f67"/>
                </a:solidFill>
                <a:latin typeface="Lucida Sans Unicode"/>
              </a:rPr>
              <a:t>Mid-troposphere warming correlated with the maximum aerosol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8720" y="3009960"/>
            <a:ext cx="3456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3e3f67"/>
                </a:solidFill>
                <a:latin typeface="Lucida Sans Unicode"/>
              </a:rPr>
              <a:t>Surface cooling (-1.5°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33880" y="2554200"/>
            <a:ext cx="1214280" cy="793800"/>
          </a:xfrm>
          <a:prstGeom prst="rect">
            <a:avLst/>
          </a:prstGeom>
          <a:noFill/>
          <a:ln w="55080">
            <a:solidFill>
              <a:srgbClr val="3d3e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50960" y="5338800"/>
          <a:ext cx="7788240" cy="1239480"/>
        </p:xfrm>
        <a:graphic>
          <a:graphicData uri="http://schemas.openxmlformats.org/drawingml/2006/table">
            <a:tbl>
              <a:tblPr/>
              <a:tblGrid>
                <a:gridCol w="2332080"/>
                <a:gridCol w="1185840"/>
                <a:gridCol w="2450880"/>
                <a:gridCol w="1819440"/>
              </a:tblGrid>
              <a:tr h="79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2x10 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A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Wnet (W/m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2m (°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3548a"/>
                    </a:solidFill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erosol 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 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5111640" y="4535640"/>
            <a:ext cx="3608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3e3f67"/>
                </a:solidFill>
                <a:latin typeface="Lucida Sans Unicode"/>
              </a:rPr>
              <a:t>Fès (Morocco), composite study over June-July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06:10:49Z</dcterms:created>
  <dc:creator>Brice</dc:creator>
  <dc:description/>
  <dc:language>en-US</dc:language>
  <cp:lastModifiedBy>cnrm</cp:lastModifiedBy>
  <dcterms:modified xsi:type="dcterms:W3CDTF">2012-04-18T13:02:14Z</dcterms:modified>
  <cp:revision>616</cp:revision>
  <dc:subject/>
  <dc:title>Panorama de l’étude de cas tourisme en Savoie  Retour sur la démarche et premiers éléments tirés</dc:title>
</cp:coreProperties>
</file>