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93F4A-F24A-469B-85CD-CCE82F8D3C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23B61-FF2E-4E69-BF7A-7B16F2A2D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5B481-46B9-4463-A743-B6260DA43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03CAF-1CAD-4686-9D4D-8318CFBC3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B72CA-6E4D-41CD-83A1-6E0BDC57A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2C384-A4B5-45B1-94FE-A0F16731A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4A874-95F4-4078-A6B7-9741DE411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FDF23-5349-4A90-9433-B4C2116B7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43323-DD05-426D-84C2-B9ACAA04F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3A11D-0AC1-4F12-B3BB-2767260E7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408FC-F216-4D08-B84C-33536F9B3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5172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520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824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5172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520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8240" y="483840"/>
            <a:ext cx="75517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172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0520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824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172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0520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8240" y="483840"/>
            <a:ext cx="75517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814320"/>
            <a:ext cx="440352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80939" r="0" b="0"/>
          <a:stretch/>
        </p:blipFill>
        <p:spPr>
          <a:xfrm>
            <a:off x="304920" y="304920"/>
            <a:ext cx="4403520" cy="6807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65657" t="18093" r="25951" b="72653"/>
          <a:stretch/>
        </p:blipFill>
        <p:spPr>
          <a:xfrm>
            <a:off x="7683480" y="351000"/>
            <a:ext cx="94464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6443640" y="40788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800240" y="6423120"/>
            <a:ext cx="12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11880" y="642456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f88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65657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6794280" y="64227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100" spc="-1" strike="noStrike">
                <a:solidFill>
                  <a:srgbClr val="59595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bri"/>
                <a:ea typeface="DejaVu San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00720" y="1989000"/>
            <a:ext cx="4392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500" spc="-1" strike="noStrike">
                <a:solidFill>
                  <a:srgbClr val="1c4853"/>
                </a:solidFill>
                <a:latin typeface="Calibri"/>
                <a:ea typeface="WenQuanYi Zen Hei"/>
              </a:rPr>
              <a:t>WP2 - Task 2.3 : Development of new modeling t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500" spc="-1" strike="noStrike">
                <a:solidFill>
                  <a:srgbClr val="1c4853"/>
                </a:solidFill>
                <a:latin typeface="Calibri"/>
                <a:ea typeface="WenQuanYi Zen Hei"/>
              </a:rPr>
              <a:t>Aerosol radiative effect on the Mediterranean climate : implication for solar ener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1640" y="4680000"/>
            <a:ext cx="339264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WenQuanYi Zen Hei"/>
              </a:rPr>
              <a:t>Samuel Somot (C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WenQuanYi Zen Hei"/>
              </a:rPr>
              <a:t>Pierre Nabat (C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a6d7d"/>
                </a:solidFill>
                <a:latin typeface="Calibri"/>
                <a:ea typeface="WenQuanYi Zen Hei"/>
              </a:rPr>
              <a:t>Roma, Jul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8840" y="62085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c00000"/>
                </a:solidFill>
                <a:uFillTx/>
                <a:latin typeface="Arial"/>
              </a:rPr>
              <a:t>http://www.climru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Conclusion and futur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360360" y="141120"/>
            <a:ext cx="871236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s are key players in Mediterranean climate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hey strongly impact incident shortwave radiation at all the scales: daily event, seasonal cycle, spatial pattern, long-term trends, and probably scenar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-radiation interaction could be (is already ?) taken into account when dealing with solar plant planning or solar energy operation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ew Mediterranean aerosol climatology is avail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Modelling aerosol-radiation requires full coupling interactive scheme: RegCM (ICTP) and ALADIN (CNRM) have this modelling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Quasi-operational weather forecast model including interactive dust scheme has been se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ny products from this work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What about interactive aerosols in seasonal forecas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Work on aerosol representation in RCMs ... towards Med-CORDEX-2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s : effect of dust emission param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7440" y="716040"/>
            <a:ext cx="75438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Effect of changing the dust emission scheme in RegC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case study: 31/10 to 02/11/200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0360" y="1728720"/>
            <a:ext cx="7545240" cy="4957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0880" y="1584360"/>
            <a:ext cx="273348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2012, 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973080"/>
            <a:ext cx="754380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891a7"/>
                </a:solidFill>
                <a:latin typeface="Calibri"/>
                <a:ea typeface="Times New Roman"/>
              </a:rPr>
              <a:t>All case study (Morocco, Barcelona, Cyprus, Croati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buClr>
                <a:srgbClr val="c5d0a0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olar energ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Variable: downward shortwave radiation (direct and diffu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takeholder need: improved solar radiation representation in climate models ... taken into account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rea: Mediterranean basin +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emporal horizon: past climate and future climate (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Partners: ICTP, CN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tate-of-the-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regional climate models include a poor representation of aerosols, often low-resolution (in space and time) clima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Off-line regional chemistry models do exist but feedback on the radiation is not model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Climate tools and products: Energy 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Mediterranean climate and 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3720" y="1693800"/>
            <a:ext cx="82170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" y="200160"/>
            <a:ext cx="706284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Mediterranean aerosols : strong variability at all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6000" y="1368360"/>
            <a:ext cx="8137440" cy="518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895320"/>
            <a:ext cx="754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 Optical Depth (AOD, 550 nm), MODIS (Aq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032360"/>
            <a:ext cx="21571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2013, 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 new 2003-2009 monthly-mean clima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000" y="787320"/>
            <a:ext cx="81360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 new Mediterranean aerosol climatology (Nabat et al., 2013, AM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Usable for variability study (2003-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Usable for driving any Med-CORDEX RCM (already tested in ALAD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2960" y="2087640"/>
            <a:ext cx="7564320" cy="42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 in ALADIN : 2003-2009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440" y="644400"/>
            <a:ext cx="75438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Direct effect: absorption and scattering of solar incident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emi-direct: change in atmosphere circulation and cloud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Indirect: not taken into account he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6440" y="1890720"/>
            <a:ext cx="7459560" cy="4805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21440" y="6264360"/>
            <a:ext cx="273348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(in pre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long-term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7440" y="716040"/>
            <a:ext cx="75438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he brightening effect since the 80s: decrease in pollution (sulfate) in    Europe leads to an increase in surface shortwave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7280" y="1630440"/>
            <a:ext cx="2921040" cy="412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35640" y="6335640"/>
            <a:ext cx="273384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, EGU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40000" y="1584360"/>
            <a:ext cx="5832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daily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16000" y="463680"/>
            <a:ext cx="49672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Implementation of a fully interactive dust scheme in ALA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Case study for 22-29 June 2012: dust event and its radiativ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Operational forecasts of Mediterranean dust event for the Charmex field campaign in Summer 2013 (on-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3359" t="27866" r="13533" b="20688"/>
          <a:stretch/>
        </p:blipFill>
        <p:spPr>
          <a:xfrm>
            <a:off x="0" y="4464000"/>
            <a:ext cx="3095640" cy="230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13705" t="28341" r="13358" b="20575"/>
          <a:stretch/>
        </p:blipFill>
        <p:spPr>
          <a:xfrm>
            <a:off x="6156360" y="4500720"/>
            <a:ext cx="2952720" cy="23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13063" t="28023" r="12779" b="20717"/>
          <a:stretch/>
        </p:blipFill>
        <p:spPr>
          <a:xfrm>
            <a:off x="3024360" y="442764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08000" y="4103640"/>
            <a:ext cx="1079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4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03640" y="4032360"/>
            <a:ext cx="1079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7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56360" y="4103640"/>
            <a:ext cx="1079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9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rcRect l="13344" t="28343" r="13366" b="21021"/>
          <a:stretch/>
        </p:blipFill>
        <p:spPr>
          <a:xfrm>
            <a:off x="4751280" y="792000"/>
            <a:ext cx="435924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5664" t="8310" r="7943" b="20241"/>
          <a:stretch/>
        </p:blipFill>
        <p:spPr>
          <a:xfrm>
            <a:off x="23760" y="792000"/>
            <a:ext cx="5376960" cy="3527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daily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30920" y="6551640"/>
            <a:ext cx="4968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3e3f67"/>
                </a:solidFill>
                <a:latin typeface="Lucida Sans Unicode"/>
              </a:rPr>
              <a:t>A. Culot, E. Bruhier, Master thesis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6320" y="3419640"/>
            <a:ext cx="3105000" cy="720720"/>
          </a:xfrm>
          <a:prstGeom prst="rect">
            <a:avLst/>
          </a:prstGeom>
          <a:noFill/>
          <a:ln w="55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4720" y="1650960"/>
            <a:ext cx="2673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Fès (Moroc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23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81320" y="1225440"/>
            <a:ext cx="1800" cy="2687760"/>
          </a:xfrm>
          <a:prstGeom prst="line">
            <a:avLst/>
          </a:prstGeom>
          <a:ln w="2232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7080" y="2519280"/>
            <a:ext cx="3275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e3f67"/>
                </a:solidFill>
                <a:latin typeface="Lucida Sans Unicode"/>
              </a:rPr>
              <a:t>Mid-troposphere warming correlated with the maximum aerosol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8720" y="3009960"/>
            <a:ext cx="34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e3f67"/>
                </a:solidFill>
                <a:latin typeface="Lucida Sans Unicode"/>
              </a:rPr>
              <a:t>Surface cooling (-1.5°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33880" y="2554200"/>
            <a:ext cx="1214280" cy="793800"/>
          </a:xfrm>
          <a:prstGeom prst="rect">
            <a:avLst/>
          </a:prstGeom>
          <a:noFill/>
          <a:ln w="55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50960" y="5338800"/>
          <a:ext cx="7788240" cy="1239480"/>
        </p:xfrm>
        <a:graphic>
          <a:graphicData uri="http://schemas.openxmlformats.org/drawingml/2006/table">
            <a:tbl>
              <a:tblPr/>
              <a:tblGrid>
                <a:gridCol w="2332080"/>
                <a:gridCol w="1185840"/>
                <a:gridCol w="2450880"/>
                <a:gridCol w="1819440"/>
              </a:tblGrid>
              <a:tr h="79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x10 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Wnet (W/m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2m (°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erosol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111640" y="4535640"/>
            <a:ext cx="3608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Fès (Morocco), composite study over June-Jul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6:10:49Z</dcterms:created>
  <dc:creator>Brice</dc:creator>
  <dc:description/>
  <dc:language>en-US</dc:language>
  <cp:lastModifiedBy>cnrm</cp:lastModifiedBy>
  <dcterms:modified xsi:type="dcterms:W3CDTF">2012-04-18T13:02:14Z</dcterms:modified>
  <cp:revision>616</cp:revision>
  <dc:subject/>
  <dc:title>Panorama de l’étude de cas tourisme en Savoie  Retour sur la démarche et premiers éléments tirés</dc:title>
</cp:coreProperties>
</file>