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4C10-F9FD-413C-BDC2-B74FA87E5C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830BB-DE81-467D-AA61-745845A18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A245F-5E29-4D6E-A074-C3E4FE0D7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D0325-89C4-42B8-992E-946AD15AA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82DBB-6DE8-40D3-A324-AE447B5DE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2711-E1FC-4899-B2B5-3E6847ADA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1F4A7-F967-4DD9-BB97-BC2DCD689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30565-03F4-49BC-A3A9-F29B1B6E8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5D393-1056-446F-84B7-DF0DE1B66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A6619-83E1-4B91-AA32-F7E04A662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671D-4AAB-4ABE-B898-2CDB164FF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8093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65657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240" y="6423120"/>
            <a:ext cx="12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11880" y="64245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f88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5657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94280" y="64227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100" spc="-1" strike="noStrike">
                <a:solidFill>
                  <a:srgbClr val="59595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  <a:ea typeface="DejaVu San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1989000"/>
            <a:ext cx="439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WP2 - Task 2.3 : Development of new model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Aerosol radiative effect on the Mediterranean climate : implication for solar ener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4680000"/>
            <a:ext cx="33926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Samuel Somo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Pierre Naba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a6d7d"/>
                </a:solidFill>
                <a:latin typeface="Calibri"/>
                <a:ea typeface="WenQuanYi Zen Hei"/>
              </a:rPr>
              <a:t>Roma, Jul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8840" y="62085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Arial"/>
              </a:rPr>
              <a:t>http://www.climru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onclusion and futu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60360" y="141120"/>
            <a:ext cx="871236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s are key players in Mediterranean climate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y strongly impact incident shortwave radiation at all the scales: daily event, seasonal cycle, spatial pattern, long-term trends, and probably scenar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-radiation interaction could be (is already ?) taken into account when dealing with solar plant planning or solar energy operation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ew Mediterranean aerosol climatology is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Modelling aerosol-radiation requires full coupling interactive scheme: RegCM (ICTP) and ALADIN (CNRM) have this modell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Quasi-operational weather forecast model including interactive dust scheme has been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ny products from this wor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hat about interactive aerosols in seasonal foreca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ork on aerosol representation in RCMs ... towards Med-CORDEX-2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s : effect of dust emission param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440" y="71604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Effect of changing the dust emission scheme in RegC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: 31/10 to 02/11/200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28720"/>
            <a:ext cx="7545240" cy="495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0880" y="158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2, 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973080"/>
            <a:ext cx="75438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891a7"/>
                </a:solidFill>
                <a:latin typeface="Calibri"/>
                <a:ea typeface="Times New Roman"/>
              </a:rPr>
              <a:t>All case study (Morocco, Barcelona, Cyprus, Croat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buClr>
                <a:srgbClr val="c5d0a0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olar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Variable: downward shortwave radiation (direct and diffu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keholder need: improved solar radiation representation in climate models ... taken into account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rea: Mediterranean basin +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emporal horizon: past climate and future climate (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Partners: ICTP, 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te-of-the-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regional climate models include a poor representation of aerosols, often low-resolution (in space and time) clim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ff-line regional chemistry models do exist but feedback on the radiation is not model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limate tools and products: Energy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climate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3720" y="1693800"/>
            <a:ext cx="82170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" y="200160"/>
            <a:ext cx="706284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aerosols : strong variability at al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000" y="1368360"/>
            <a:ext cx="813744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895320"/>
            <a:ext cx="75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 Optical Depth (AOD, 550 nm), MODIS (Aq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32360"/>
            <a:ext cx="21571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3, 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 new 2003-2009 monthly-mean 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00" y="787320"/>
            <a:ext cx="8136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 new Mediterranean aerosol climatology (Nabat et al., 2013, 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variability study (2003-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driving any Med-CORDEX RCM (already tested in ALAD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2960" y="2087640"/>
            <a:ext cx="756432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 in ALADIN : 2003-2009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440" y="64440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Direct effect: absorption and scattering of solar inciden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emi-direct: change in atmosphere circulation and clou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ndirect: not taken into account 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6440" y="1890720"/>
            <a:ext cx="7459560" cy="480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1440" y="626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(in pre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long-term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716040"/>
            <a:ext cx="7543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 brightening effect since the 80s: decrease in pollution (sulfate) in    Europe leads to an increase in surface shortwa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7280" y="1630440"/>
            <a:ext cx="2921040" cy="412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35640" y="6335640"/>
            <a:ext cx="273384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, EGU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0" y="1584360"/>
            <a:ext cx="5832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6000" y="463680"/>
            <a:ext cx="4967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mplementation of a fully interactive dust scheme in ALA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 for 22-29 June 2012: dust event and its radiativ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perational forecasts of Mediterranean dust event for the Charmex field campaign in Summer 2013 (on-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359" t="27866" r="13533" b="20688"/>
          <a:stretch/>
        </p:blipFill>
        <p:spPr>
          <a:xfrm>
            <a:off x="0" y="4464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3705" t="28341" r="13358" b="20575"/>
          <a:stretch/>
        </p:blipFill>
        <p:spPr>
          <a:xfrm>
            <a:off x="6156360" y="4500720"/>
            <a:ext cx="295272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3063" t="28023" r="12779" b="20717"/>
          <a:stretch/>
        </p:blipFill>
        <p:spPr>
          <a:xfrm>
            <a:off x="3024360" y="442764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0800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4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03640" y="4032360"/>
            <a:ext cx="1079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7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636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9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rcRect l="13344" t="28343" r="13366" b="21021"/>
          <a:stretch/>
        </p:blipFill>
        <p:spPr>
          <a:xfrm>
            <a:off x="4751280" y="792000"/>
            <a:ext cx="43592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664" t="8310" r="7943" b="20241"/>
          <a:stretch/>
        </p:blipFill>
        <p:spPr>
          <a:xfrm>
            <a:off x="23760" y="792000"/>
            <a:ext cx="5376960" cy="352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6551640"/>
            <a:ext cx="496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3e3f67"/>
                </a:solidFill>
                <a:latin typeface="Lucida Sans Unicode"/>
              </a:rPr>
              <a:t>A. Culot, E. Bruhier, Master thesis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3419640"/>
            <a:ext cx="3105000" cy="72072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4720" y="1650960"/>
            <a:ext cx="2673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23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1225440"/>
            <a:ext cx="1800" cy="2687760"/>
          </a:xfrm>
          <a:prstGeom prst="line">
            <a:avLst/>
          </a:prstGeom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7080" y="2519280"/>
            <a:ext cx="327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Mid-troposphere warming correlated with the maximum aerosol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3009960"/>
            <a:ext cx="34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Surface cooling (-1.5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3880" y="2554200"/>
            <a:ext cx="1214280" cy="79380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0960" y="5338800"/>
          <a:ext cx="7788240" cy="1239480"/>
        </p:xfrm>
        <a:graphic>
          <a:graphicData uri="http://schemas.openxmlformats.org/drawingml/2006/table">
            <a:tbl>
              <a:tblPr/>
              <a:tblGrid>
                <a:gridCol w="2332080"/>
                <a:gridCol w="1185840"/>
                <a:gridCol w="2450880"/>
                <a:gridCol w="1819440"/>
              </a:tblGrid>
              <a:tr h="79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x1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Wnet (W/m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2m (°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erosol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111640" y="4535640"/>
            <a:ext cx="3608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, composite study over June-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10:49Z</dcterms:created>
  <dc:creator>Brice</dc:creator>
  <dc:description/>
  <dc:language>en-US</dc:language>
  <cp:lastModifiedBy>cnrm</cp:lastModifiedBy>
  <dcterms:modified xsi:type="dcterms:W3CDTF">2012-04-18T13:02:14Z</dcterms:modified>
  <cp:revision>616</cp:revision>
  <dc:subject/>
  <dc:title>Panorama de l’étude de cas tourisme en Savoie  Retour sur la démarche et premiers éléments tirés</dc:title>
</cp:coreProperties>
</file>