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7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dt" idx="43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ftr" idx="44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 type="sldNum" idx="45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3964CB-3D23-43F2-A5CE-2CC4F69A2C8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03B15B-F42D-468A-8F3F-BA7CA1348B7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B384F0-5D25-4F5A-BD7F-4F84412441F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D8F626-0CB3-4C7C-82B4-1002ECB4938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E820D6-E2B7-4FDD-B082-85B7E82309B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B4195F-BF69-48DD-AB06-A95B640BE5D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B4E649-84E2-4143-9582-21AA850AFCE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3D00EB-F5C3-42EC-B476-C4DEBCE07D3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577A05-C86B-49F4-9051-A9DACDC82E3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AAD2D-58D0-4965-9038-E7E41122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3E5C1-9515-4DDF-B544-3D0D88F0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7279C-E9BA-454A-9B6E-B3E3F4BB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D3D29-0804-465B-89AC-83D2988E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D6887-45B2-4E82-8D7B-759DEB73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573BA-3602-41F3-8CAA-F661586B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68A7C-DC16-424B-B5AB-80ABC5D2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73806-6F6F-4DDC-9398-0634ECC2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2801A-06C0-407D-BEF2-7A45DFB0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EA8F2-9EC9-443D-A572-3BDCE8D5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041D2-7CDD-4CA7-9F06-657CA12B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F5CC7-8C95-4003-B0A1-D996C8BA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EF7CC-EBE5-4EBF-8F90-9B199900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E522-B646-4C73-8832-7253D4A1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A33E-F9F8-4152-8497-29DA6366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AAA4C-7938-4F1F-BF6A-B645FA6F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D76B2-F0D4-4C6B-86F2-208D4B6A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82279-6C57-4E10-A37D-53ACB7DB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66B26-DB7E-4EDA-9CCC-1B140572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0FEF1-62EA-418C-97C1-2541AB43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60A78-FC3A-48FA-9FCD-878A4AB3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4CDB7-DB54-4B39-B323-07C48AD0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0BCC-5345-41B2-AC85-6B3F8E64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3B4A4-F4C9-46BE-9943-2579D7F1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304920" y="814320"/>
            <a:ext cx="440352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61" descr=""/>
          <p:cNvPicPr/>
          <p:nvPr/>
        </p:nvPicPr>
        <p:blipFill>
          <a:blip r:embed="rId3"/>
          <a:srcRect l="0" t="80899" r="0" b="0"/>
          <a:stretch/>
        </p:blipFill>
        <p:spPr>
          <a:xfrm>
            <a:off x="304920" y="304920"/>
            <a:ext cx="4403520" cy="680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45" descr=""/>
          <p:cNvPicPr/>
          <p:nvPr/>
        </p:nvPicPr>
        <p:blipFill>
          <a:blip r:embed="rId4"/>
          <a:srcRect l="65654" t="18093" r="25951" b="72653"/>
          <a:stretch/>
        </p:blipFill>
        <p:spPr>
          <a:xfrm>
            <a:off x="7683480" y="351000"/>
            <a:ext cx="944640" cy="7617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70" descr=""/>
          <p:cNvPicPr/>
          <p:nvPr/>
        </p:nvPicPr>
        <p:blipFill>
          <a:blip r:embed="rId5"/>
          <a:stretch/>
        </p:blipFill>
        <p:spPr>
          <a:xfrm>
            <a:off x="6443640" y="407880"/>
            <a:ext cx="971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271440" y="0"/>
            <a:ext cx="3508560" cy="6858000"/>
          </a:xfrm>
          <a:prstGeom prst="rect">
            <a:avLst/>
          </a:prstGeom>
          <a:solidFill>
            <a:srgbClr val="ced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7" descr=""/>
          <p:cNvPicPr/>
          <p:nvPr/>
        </p:nvPicPr>
        <p:blipFill>
          <a:blip r:embed="rId2"/>
          <a:srcRect l="0" t="66463" r="0" b="0"/>
          <a:stretch/>
        </p:blipFill>
        <p:spPr>
          <a:xfrm>
            <a:off x="436680" y="7920"/>
            <a:ext cx="3343320" cy="110664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27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8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6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7ec3d4"/>
                </a:solidFill>
                <a:latin typeface="Calibri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9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0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3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4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5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6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Box 6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7ec3d4"/>
                </a:solidFill>
                <a:latin typeface="Calibri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37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38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4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818F-836B-4FD1-AB92-23140E22BA7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6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7ec3d4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4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4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658800" y="228600"/>
            <a:ext cx="8201160" cy="6384960"/>
          </a:xfrm>
          <a:prstGeom prst="rect">
            <a:avLst/>
          </a:prstGeom>
          <a:solidFill>
            <a:srgbClr val="fdefca"/>
          </a:solidFill>
          <a:ln w="9360">
            <a:solidFill>
              <a:srgbClr val="fbde9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2"/>
          <a:srcRect l="0" t="0" r="0" b="50011"/>
          <a:stretch/>
        </p:blipFill>
        <p:spPr>
          <a:xfrm>
            <a:off x="611280" y="115920"/>
            <a:ext cx="3343320" cy="1649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3"/>
          <a:srcRect l="0" t="67151" r="0" b="0"/>
          <a:stretch/>
        </p:blipFill>
        <p:spPr>
          <a:xfrm>
            <a:off x="5497560" y="237960"/>
            <a:ext cx="3344760" cy="1084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37E5-0806-453E-A60A-F000F2638DBB}" type="slidenum">
              <a:rPr b="0" lang="en-US" sz="1400" spc="-1" strike="noStrike">
                <a:solidFill>
                  <a:srgbClr val="3333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7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ced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45" descr=""/>
          <p:cNvPicPr/>
          <p:nvPr/>
        </p:nvPicPr>
        <p:blipFill>
          <a:blip r:embed="rId3"/>
          <a:srcRect l="65654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70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4572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6858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914400" indent="-228600">
              <a:spcBef>
                <a:spcPts val="2001"/>
              </a:spcBef>
              <a:buClr>
                <a:srgbClr val="c5d0a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1143000" indent="-228600">
              <a:spcBef>
                <a:spcPts val="2001"/>
              </a:spcBef>
              <a:buClr>
                <a:srgbClr val="3891a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0" name=""/>
          <p:cNvGraphicFramePr/>
          <p:nvPr/>
        </p:nvGraphicFramePr>
        <p:xfrm>
          <a:off x="2916360" y="3170160"/>
          <a:ext cx="3282840" cy="365040"/>
        </p:xfrm>
        <a:graphic>
          <a:graphicData uri="http://schemas.openxmlformats.org/drawingml/2006/table">
            <a:tbl>
              <a:tblPr/>
              <a:tblGrid>
                <a:gridCol w="817560"/>
                <a:gridCol w="246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Rectangle 33"/>
          <p:cNvSpPr/>
          <p:nvPr/>
        </p:nvSpPr>
        <p:spPr>
          <a:xfrm>
            <a:off x="4643280" y="245736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ea level issues in CLIMRUN model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550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The sea level issues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63" name="Rectangle 9"/>
          <p:cNvSpPr/>
          <p:nvPr/>
        </p:nvSpPr>
        <p:spPr>
          <a:xfrm>
            <a:off x="250920" y="119700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urces of sea leve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rmal expansion (thermosteric effect)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basin-scale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losteric effect (changes in salinity compensated by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ss addition: It’s due to E-P-R-B-G (mass budget of the Med Sea) chan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ynamical: due to change in circ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ange of near-Atlantic sea level due to all the processes including ice melting (glaciers or ice she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5508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CLIMRUN sea level products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65" name="Text Box 12"/>
          <p:cNvSpPr/>
          <p:nvPr/>
        </p:nvSpPr>
        <p:spPr>
          <a:xfrm>
            <a:off x="611280" y="836640"/>
            <a:ext cx="43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RCE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-CORDEX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3"/>
          <p:cNvSpPr/>
          <p:nvPr/>
        </p:nvSpPr>
        <p:spPr>
          <a:xfrm>
            <a:off x="684360" y="2079720"/>
            <a:ext cx="741672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dc76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dc765"/>
                </a:solidFill>
                <a:latin typeface="Arial"/>
              </a:rPr>
              <a:t>Thermal expansion (thermosteric effect) </a:t>
            </a:r>
            <a:r>
              <a:rPr b="0" lang="it-IT" sz="2000" spc="-1" strike="noStrike">
                <a:solidFill>
                  <a:srgbClr val="8dc765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8dc765"/>
                </a:solidFill>
                <a:latin typeface="Arial"/>
              </a:rPr>
              <a:t> MED-scal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eb80a"/>
                </a:solidFill>
                <a:latin typeface="Arial"/>
              </a:rPr>
              <a:t>Halosteric effect (changes in salinity compensated by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eb80a"/>
                </a:solidFill>
                <a:latin typeface="Arial"/>
              </a:rPr>
              <a:t>Mass addition: It’s due to E-P-R-B-G (mass budget of the Med Sea) chan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eb8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dc76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dc765"/>
                </a:solidFill>
                <a:latin typeface="Arial"/>
              </a:rPr>
              <a:t>Dynamical: due to change in circulation (2D ma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Change of near-Atlantic sea level due to all the processes including ice melting (glaciers or ice she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ENEA products: hindcast simulation </a:t>
            </a:r>
            <a:br>
              <a:rPr sz="3200"/>
            </a:b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(ERAINT MED-CORDEX)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68" name="Picture 16" descr="TREND_P30_ERAIM_r1i1p5_AVISO_SSH_NORTH ADRIATIC_1983_2010MON_THERMOS"/>
          <p:cNvPicPr/>
          <p:nvPr/>
        </p:nvPicPr>
        <p:blipFill>
          <a:blip r:embed="rId1"/>
          <a:srcRect l="4258" t="0" r="6823" b="0"/>
          <a:stretch/>
        </p:blipFill>
        <p:spPr>
          <a:xfrm>
            <a:off x="34920" y="1033560"/>
            <a:ext cx="3745080" cy="3168720"/>
          </a:xfrm>
          <a:prstGeom prst="rect">
            <a:avLst/>
          </a:prstGeom>
          <a:ln w="0">
            <a:noFill/>
          </a:ln>
        </p:spPr>
      </p:pic>
      <p:grpSp>
        <p:nvGrpSpPr>
          <p:cNvPr id="869" name="Group 27"/>
          <p:cNvGrpSpPr/>
          <p:nvPr/>
        </p:nvGrpSpPr>
        <p:grpSpPr>
          <a:xfrm>
            <a:off x="3276720" y="3616200"/>
            <a:ext cx="5614920" cy="3125880"/>
            <a:chOff x="3276720" y="3616200"/>
            <a:chExt cx="5614920" cy="3125880"/>
          </a:xfrm>
        </p:grpSpPr>
        <p:sp>
          <p:nvSpPr>
            <p:cNvPr id="870" name="AutoShape 19"/>
            <p:cNvSpPr/>
            <p:nvPr/>
          </p:nvSpPr>
          <p:spPr>
            <a:xfrm>
              <a:off x="3276720" y="3616200"/>
              <a:ext cx="5614920" cy="31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1" name="Picture 20" descr="MAP_ENEA-PROTHEUS_P30_ERAIM_r1i1p5_SSH_NORTH ADRIATIC_2005-2010 vs 1995-2000_THERMOS_ETAN"/>
            <p:cNvPicPr/>
            <p:nvPr/>
          </p:nvPicPr>
          <p:blipFill>
            <a:blip r:embed="rId2"/>
            <a:srcRect l="10406" t="8515" r="11217" b="23191"/>
            <a:stretch/>
          </p:blipFill>
          <p:spPr>
            <a:xfrm>
              <a:off x="3276720" y="4257720"/>
              <a:ext cx="266364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21" descr="MAP_ENEA-PROTHEUS_P30_ERAIM_r1i1p5_SSH_NORTH ADRIATIC_2005-2010 vs 1995-2000_THERMOS_ETAN"/>
            <p:cNvPicPr/>
            <p:nvPr/>
          </p:nvPicPr>
          <p:blipFill>
            <a:blip r:embed="rId3"/>
            <a:srcRect l="8783" t="76816" r="4797" b="6116"/>
            <a:stretch/>
          </p:blipFill>
          <p:spPr>
            <a:xfrm>
              <a:off x="3624120" y="5996160"/>
              <a:ext cx="5037120" cy="7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Text Box 22"/>
            <p:cNvSpPr/>
            <p:nvPr/>
          </p:nvSpPr>
          <p:spPr>
            <a:xfrm>
              <a:off x="3392640" y="3962520"/>
              <a:ext cx="231444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a) PROTHEUS-E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23"/>
            <p:cNvSpPr/>
            <p:nvPr/>
          </p:nvSpPr>
          <p:spPr>
            <a:xfrm>
              <a:off x="6402240" y="4021200"/>
              <a:ext cx="23749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b) AV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448080" y="3616200"/>
              <a:ext cx="521316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  <a:ea typeface="MS Mincho"/>
                </a:rPr>
                <a:t>Sea level anomalies 2005-2010 vs 1995-2000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6" name="Picture 25" descr="MEANmaps_SSH_AVISO_NORTH ADRIATIC_2005_2010vs1995_2000"/>
            <p:cNvPicPr/>
            <p:nvPr/>
          </p:nvPicPr>
          <p:blipFill>
            <a:blip r:embed="rId4"/>
            <a:srcRect l="8904" t="11875" r="13182" b="19891"/>
            <a:stretch/>
          </p:blipFill>
          <p:spPr>
            <a:xfrm>
              <a:off x="6229440" y="4303800"/>
              <a:ext cx="2662200" cy="174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7" name="Rectangle 26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556400" cy="11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ENEA products: Scenario simulation </a:t>
            </a:r>
            <a:br>
              <a:rPr sz="3600"/>
            </a:b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(CIRCE SRESA1B )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79" name="Picture 13" descr=""/>
          <p:cNvPicPr/>
          <p:nvPr/>
        </p:nvPicPr>
        <p:blipFill>
          <a:blip r:embed="rId1"/>
          <a:stretch/>
        </p:blipFill>
        <p:spPr>
          <a:xfrm>
            <a:off x="0" y="1197000"/>
            <a:ext cx="4211640" cy="31528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14" descr="MAP_ENEA-PROTHEUS_SSH_NORTH ADRIATIC_2041-2050 vs 1971-1980ETAN_THERMO_MED"/>
          <p:cNvPicPr/>
          <p:nvPr/>
        </p:nvPicPr>
        <p:blipFill>
          <a:blip r:embed="rId2"/>
          <a:srcRect l="8243" t="0" r="6138" b="3346"/>
          <a:stretch/>
        </p:blipFill>
        <p:spPr>
          <a:xfrm>
            <a:off x="4427640" y="2676600"/>
            <a:ext cx="4716360" cy="399240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26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ENEA products: hindcast simulation </a:t>
            </a:r>
            <a:br>
              <a:rPr sz="3200"/>
            </a:b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(ERAINT MED-CORDEX)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83" name="Rectangle 12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15" descr=""/>
          <p:cNvPicPr/>
          <p:nvPr/>
        </p:nvPicPr>
        <p:blipFill>
          <a:blip r:embed="rId1"/>
          <a:srcRect l="4869" t="0" r="6997" b="0"/>
          <a:stretch/>
        </p:blipFill>
        <p:spPr>
          <a:xfrm>
            <a:off x="0" y="1268280"/>
            <a:ext cx="3564000" cy="30290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24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55800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556400" cy="11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ENEA products: Scenario simulation </a:t>
            </a:r>
            <a:br>
              <a:rPr sz="3600"/>
            </a:b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(CIRCE SRESA1B )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87" name="Picture 5" descr="MAP_ENEA-PROTHEUS_SSH_TUNISIA_2041-2050 vs 1971-1980ETAN_THERMO_MED"/>
          <p:cNvPicPr/>
          <p:nvPr/>
        </p:nvPicPr>
        <p:blipFill>
          <a:blip r:embed="rId1"/>
          <a:srcRect l="15735" t="0" r="12869" b="4799"/>
          <a:stretch/>
        </p:blipFill>
        <p:spPr>
          <a:xfrm>
            <a:off x="3959280" y="2205000"/>
            <a:ext cx="4500360" cy="450072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6" descr="TREND_ENEA-PROTHEUS_SSH_TUNISIA_1951_2050THERMOS_MED_ETAN_ADR"/>
          <p:cNvPicPr/>
          <p:nvPr/>
        </p:nvPicPr>
        <p:blipFill>
          <a:blip r:embed="rId2"/>
          <a:stretch/>
        </p:blipFill>
        <p:spPr>
          <a:xfrm>
            <a:off x="0" y="1268280"/>
            <a:ext cx="406728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ENEA products: hindcast simulation </a:t>
            </a:r>
            <a:br>
              <a:rPr sz="3200"/>
            </a:br>
            <a:r>
              <a:rPr b="0" lang="en-GB" sz="3200" spc="-1" strike="noStrike">
                <a:solidFill>
                  <a:srgbClr val="3891a7"/>
                </a:solidFill>
                <a:latin typeface="Calibri"/>
              </a:rPr>
              <a:t>(ERAINT MED-CORDEX)</a:t>
            </a:r>
            <a:endParaRPr b="0" lang="en-US" sz="32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90" name="Rectangle 12"/>
          <p:cNvSpPr/>
          <p:nvPr/>
        </p:nvSpPr>
        <p:spPr>
          <a:xfrm>
            <a:off x="0" y="4437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ynamical SSH: +. Mediterranean-averaged thermoster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13" descr="TREND_P30_ERAIM_r1i1p5_AVISO_SSH_CYPRUS_1983_2010MON_THERMOS-MED"/>
          <p:cNvPicPr/>
          <p:nvPr/>
        </p:nvPicPr>
        <p:blipFill>
          <a:blip r:embed="rId1"/>
          <a:srcRect l="3805" t="0" r="6127" b="0"/>
          <a:stretch/>
        </p:blipFill>
        <p:spPr>
          <a:xfrm>
            <a:off x="0" y="1125360"/>
            <a:ext cx="4030560" cy="335772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9" descr=""/>
          <p:cNvPicPr/>
          <p:nvPr/>
        </p:nvPicPr>
        <p:blipFill>
          <a:blip r:embed="rId2"/>
          <a:stretch/>
        </p:blipFill>
        <p:spPr>
          <a:xfrm>
            <a:off x="3851280" y="3587760"/>
            <a:ext cx="5292720" cy="327024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0"/>
          <p:cNvSpPr/>
          <p:nvPr/>
        </p:nvSpPr>
        <p:spPr>
          <a:xfrm>
            <a:off x="3895560" y="3213000"/>
            <a:ext cx="52135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MS Mincho"/>
              </a:rPr>
              <a:t>Sea level anomalies 2005-2010 vs 1995-200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1240" y="810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ENEA products: Scenario simulation </a:t>
            </a:r>
            <a:br>
              <a:rPr sz="3600"/>
            </a:br>
            <a:r>
              <a:rPr b="0" lang="en-GB" sz="3600" spc="-1" strike="noStrike">
                <a:solidFill>
                  <a:srgbClr val="3891a7"/>
                </a:solidFill>
                <a:latin typeface="Calibri"/>
              </a:rPr>
              <a:t>(CIRCE SRESA1B )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pic>
        <p:nvPicPr>
          <p:cNvPr id="895" name="Picture 5" descr="TREND_ENEA-PROTHEUS_SSH_CYPRUS_1951_2050THERMOS_MED_ETAN_ADR"/>
          <p:cNvPicPr/>
          <p:nvPr/>
        </p:nvPicPr>
        <p:blipFill>
          <a:blip r:embed="rId1"/>
          <a:stretch/>
        </p:blipFill>
        <p:spPr>
          <a:xfrm>
            <a:off x="34920" y="120636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6" descr="MAP_ENEA-PROTHEUS_SSH_CYPRUS_2041-2050 vs 1971-1980ETAN_THERMO_MED"/>
          <p:cNvPicPr/>
          <p:nvPr/>
        </p:nvPicPr>
        <p:blipFill>
          <a:blip r:embed="rId2"/>
          <a:srcRect l="13688" t="0" r="11777" b="0"/>
          <a:stretch/>
        </p:blipFill>
        <p:spPr>
          <a:xfrm>
            <a:off x="4803840" y="2421000"/>
            <a:ext cx="4340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7:35:44Z</dcterms:created>
  <dc:creator>alex</dc:creator>
  <dc:description/>
  <dc:language>en-US</dc:language>
  <cp:lastModifiedBy>alex</cp:lastModifiedBy>
  <dcterms:modified xsi:type="dcterms:W3CDTF">2013-07-08T19:54:17Z</dcterms:modified>
  <cp:revision>26</cp:revision>
  <dc:subject/>
  <dc:title>Diapositiva 1</dc:title>
</cp:coreProperties>
</file>