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7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4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45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1C7949-C120-4A06-A941-6E791FB3496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6CC054-5350-4A2A-B74A-43A65C3570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0FAE31-749C-48DB-90EA-B0B5EE09B1E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7E19C3-289C-49A2-82BE-31C920E3F07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B9CEEC-8EA0-4B79-B09B-A81E8AD7563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67928A-A906-41E8-9FC0-5DDC18D9EF0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27B060-13D4-43F5-82F9-D868AAAC2A3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FFDEC6-A54F-4330-A3F0-EEBC890B5C5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236DB7-A69F-4F68-8F49-504D9E14061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FF141-E19E-490D-B385-40A1C0AC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B604B-8281-442C-BB14-4A01760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5437C-2238-4C61-8484-AD30236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DEB18-C6AB-4062-9D44-CF22AED4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05B3F-BEEE-43CA-8E81-747D54D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896B5-DACF-4ECA-A1F3-CEFC995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81C48-9A94-4FC9-9C4C-042E6B9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D7725-09CD-41ED-8B9B-1676283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1E158-3F45-4F74-93D4-0364B90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B631C-93F1-49BB-BCB1-2C6F26F4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5A65-28DC-4D66-AAF4-B4A398AB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65196-E615-492B-B549-1109BD24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1B58-C70D-469F-9922-EF16FA09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ACA8-F957-47F9-B055-186A7F4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F4B9-C849-4022-B9D1-C14CC0A7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E6C6-8D82-41DA-BCE0-43A97A6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104E-D83E-4F84-A449-02791C33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2BF1-AE6E-4FBA-BC42-33E7156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5808-AC7E-4E52-A8B8-3D972BD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0DFC-59AB-41BC-A46B-55C97451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75D2-63EE-4ACF-8D3D-E790AB7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1EE5-E091-4B5A-AC54-5C76F37B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C2679-D4B8-45A5-A21A-4495D5A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8A95-4BC9-4C35-9B01-B9DA06F9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61" descr=""/>
          <p:cNvPicPr/>
          <p:nvPr/>
        </p:nvPicPr>
        <p:blipFill>
          <a:blip r:embed="rId3"/>
          <a:srcRect l="0" t="8089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45" descr=""/>
          <p:cNvPicPr/>
          <p:nvPr/>
        </p:nvPicPr>
        <p:blipFill>
          <a:blip r:embed="rId4"/>
          <a:srcRect l="65654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70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271440" y="0"/>
            <a:ext cx="3508560" cy="6858000"/>
          </a:xfrm>
          <a:prstGeom prst="rect">
            <a:avLst/>
          </a:prstGeom>
          <a:solidFill>
            <a:srgbClr val="ced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"/>
          <p:cNvPicPr/>
          <p:nvPr/>
        </p:nvPicPr>
        <p:blipFill>
          <a:blip r:embed="rId2"/>
          <a:srcRect l="0" t="66463" r="0" b="0"/>
          <a:stretch/>
        </p:blipFill>
        <p:spPr>
          <a:xfrm>
            <a:off x="436680" y="7920"/>
            <a:ext cx="3343320" cy="110664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8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6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9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0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3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4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5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6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6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7349-F0D0-48F5-AA07-B5CACD1CC9A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6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7ec3d4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658800" y="228600"/>
            <a:ext cx="8201160" cy="6384960"/>
          </a:xfrm>
          <a:prstGeom prst="rect">
            <a:avLst/>
          </a:prstGeom>
          <a:solidFill>
            <a:srgbClr val="fdefca"/>
          </a:solidFill>
          <a:ln w="9360">
            <a:solidFill>
              <a:srgbClr val="fbde9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2"/>
          <a:srcRect l="0" t="0" r="0" b="50011"/>
          <a:stretch/>
        </p:blipFill>
        <p:spPr>
          <a:xfrm>
            <a:off x="611280" y="115920"/>
            <a:ext cx="3343320" cy="164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3"/>
          <a:srcRect l="0" t="67151" r="0" b="0"/>
          <a:stretch/>
        </p:blipFill>
        <p:spPr>
          <a:xfrm>
            <a:off x="5497560" y="237960"/>
            <a:ext cx="3344760" cy="1084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F668-B0A7-4E02-92DA-11E47AFA5298}" type="slidenum">
              <a:rPr b="0" lang="en-US" sz="1400" spc="-1" strike="noStrike">
                <a:solidFill>
                  <a:srgbClr val="3333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2916360" y="3170160"/>
          <a:ext cx="3282840" cy="365040"/>
        </p:xfrm>
        <a:graphic>
          <a:graphicData uri="http://schemas.openxmlformats.org/drawingml/2006/table">
            <a:tbl>
              <a:tblPr/>
              <a:tblGrid>
                <a:gridCol w="817560"/>
                <a:gridCol w="246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33"/>
          <p:cNvSpPr/>
          <p:nvPr/>
        </p:nvSpPr>
        <p:spPr>
          <a:xfrm>
            <a:off x="4643280" y="245736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a level issues in CLIMRUN model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The sea level issues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250920" y="119700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urces of sea leve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mal expansion (thermosteric effect)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asin-scal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losteric effect (changes in salinity compensated by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ss addition: It’s due to E-P-R-B-G (mass budget of the Med Sea)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ynamical: due to change in circ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CLIMRUN sea level products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5" name="Text Box 12"/>
          <p:cNvSpPr/>
          <p:nvPr/>
        </p:nvSpPr>
        <p:spPr>
          <a:xfrm>
            <a:off x="611280" y="83664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E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-CORDEX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684360" y="2079720"/>
            <a:ext cx="7416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Thermal expansion (thermosteric effect) </a:t>
            </a:r>
            <a:r>
              <a:rPr b="0" lang="it-IT" sz="2000" spc="-1" strike="noStrike">
                <a:solidFill>
                  <a:srgbClr val="8dc765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 MED-scal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Halosteric effect (changes in salinity compensated by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Mass addition: It’s due to E-P-R-B-G (mass budget of the Med Sea) chan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Dynamical: due to change in circulation (2D m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68" name="Picture 16" descr="TREND_P30_ERAIM_r1i1p5_AVISO_SSH_NORTH ADRIATIC_1983_2010MON_THERMOS"/>
          <p:cNvPicPr/>
          <p:nvPr/>
        </p:nvPicPr>
        <p:blipFill>
          <a:blip r:embed="rId1"/>
          <a:srcRect l="4258" t="0" r="6823" b="0"/>
          <a:stretch/>
        </p:blipFill>
        <p:spPr>
          <a:xfrm>
            <a:off x="34920" y="1033560"/>
            <a:ext cx="3745080" cy="3168720"/>
          </a:xfrm>
          <a:prstGeom prst="rect">
            <a:avLst/>
          </a:prstGeom>
          <a:ln w="0">
            <a:noFill/>
          </a:ln>
        </p:spPr>
      </p:pic>
      <p:grpSp>
        <p:nvGrpSpPr>
          <p:cNvPr id="869" name="Group 27"/>
          <p:cNvGrpSpPr/>
          <p:nvPr/>
        </p:nvGrpSpPr>
        <p:grpSpPr>
          <a:xfrm>
            <a:off x="3276720" y="3616200"/>
            <a:ext cx="5614920" cy="3125880"/>
            <a:chOff x="3276720" y="3616200"/>
            <a:chExt cx="5614920" cy="3125880"/>
          </a:xfrm>
        </p:grpSpPr>
        <p:sp>
          <p:nvSpPr>
            <p:cNvPr id="870" name="AutoShape 19"/>
            <p:cNvSpPr/>
            <p:nvPr/>
          </p:nvSpPr>
          <p:spPr>
            <a:xfrm>
              <a:off x="3276720" y="3616200"/>
              <a:ext cx="5614920" cy="31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Picture 20" descr="MAP_ENEA-PROTHEUS_P30_ERAIM_r1i1p5_SSH_NORTH ADRIATIC_2005-2010 vs 1995-2000_THERMOS_ETAN"/>
            <p:cNvPicPr/>
            <p:nvPr/>
          </p:nvPicPr>
          <p:blipFill>
            <a:blip r:embed="rId2"/>
            <a:srcRect l="10406" t="8515" r="11217" b="23191"/>
            <a:stretch/>
          </p:blipFill>
          <p:spPr>
            <a:xfrm>
              <a:off x="3276720" y="4257720"/>
              <a:ext cx="26636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21" descr="MAP_ENEA-PROTHEUS_P30_ERAIM_r1i1p5_SSH_NORTH ADRIATIC_2005-2010 vs 1995-2000_THERMOS_ETAN"/>
            <p:cNvPicPr/>
            <p:nvPr/>
          </p:nvPicPr>
          <p:blipFill>
            <a:blip r:embed="rId3"/>
            <a:srcRect l="8783" t="76816" r="4797" b="6116"/>
            <a:stretch/>
          </p:blipFill>
          <p:spPr>
            <a:xfrm>
              <a:off x="3624120" y="5996160"/>
              <a:ext cx="503712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 Box 22"/>
            <p:cNvSpPr/>
            <p:nvPr/>
          </p:nvSpPr>
          <p:spPr>
            <a:xfrm>
              <a:off x="3392640" y="3962520"/>
              <a:ext cx="23144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a) PROTHEUS-E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3"/>
            <p:cNvSpPr/>
            <p:nvPr/>
          </p:nvSpPr>
          <p:spPr>
            <a:xfrm>
              <a:off x="6402240" y="4021200"/>
              <a:ext cx="23749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b) AV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448080" y="3616200"/>
              <a:ext cx="52131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Sea level anomalies 2005-2010 vs 1995-200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6" name="Picture 25" descr="MEANmaps_SSH_AVISO_NORTH ADRIATIC_2005_2010vs1995_2000"/>
            <p:cNvPicPr/>
            <p:nvPr/>
          </p:nvPicPr>
          <p:blipFill>
            <a:blip r:embed="rId4"/>
            <a:srcRect l="8904" t="11875" r="13182" b="19891"/>
            <a:stretch/>
          </p:blipFill>
          <p:spPr>
            <a:xfrm>
              <a:off x="6229440" y="4303800"/>
              <a:ext cx="2662200" cy="17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7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79" name="Picture 13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4" descr="MAP_ENEA-PROTHEUS_SSH_NORTH ADRIATIC_2041-2050 vs 1971-1980ETAN_THERMO_MED"/>
          <p:cNvPicPr/>
          <p:nvPr/>
        </p:nvPicPr>
        <p:blipFill>
          <a:blip r:embed="rId2"/>
          <a:srcRect l="8243" t="0" r="6138" b="3346"/>
          <a:stretch/>
        </p:blipFill>
        <p:spPr>
          <a:xfrm>
            <a:off x="4427640" y="2676600"/>
            <a:ext cx="4716360" cy="399240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83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5" descr=""/>
          <p:cNvPicPr/>
          <p:nvPr/>
        </p:nvPicPr>
        <p:blipFill>
          <a:blip r:embed="rId1"/>
          <a:srcRect l="4869" t="0" r="6997" b="0"/>
          <a:stretch/>
        </p:blipFill>
        <p:spPr>
          <a:xfrm>
            <a:off x="0" y="1268280"/>
            <a:ext cx="3564000" cy="3029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4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580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87" name="Picture 5" descr="MAP_ENEA-PROTHEUS_SSH_TUNISIA_2041-2050 vs 1971-1980ETAN_THERMO_MED"/>
          <p:cNvPicPr/>
          <p:nvPr/>
        </p:nvPicPr>
        <p:blipFill>
          <a:blip r:embed="rId1"/>
          <a:srcRect l="15735" t="0" r="12869" b="4799"/>
          <a:stretch/>
        </p:blipFill>
        <p:spPr>
          <a:xfrm>
            <a:off x="3959280" y="2205000"/>
            <a:ext cx="4500360" cy="45007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6" descr="TREND_ENEA-PROTHEUS_SSH_TUNISIA_1951_2050THERMOS_MED_ETAN_ADR"/>
          <p:cNvPicPr/>
          <p:nvPr/>
        </p:nvPicPr>
        <p:blipFill>
          <a:blip r:embed="rId2"/>
          <a:stretch/>
        </p:blipFill>
        <p:spPr>
          <a:xfrm>
            <a:off x="0" y="126828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90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3" descr="TREND_P30_ERAIM_r1i1p5_AVISO_SSH_CYPRUS_1983_2010MON_THERMOS-MED"/>
          <p:cNvPicPr/>
          <p:nvPr/>
        </p:nvPicPr>
        <p:blipFill>
          <a:blip r:embed="rId1"/>
          <a:srcRect l="3805" t="0" r="6127" b="0"/>
          <a:stretch/>
        </p:blipFill>
        <p:spPr>
          <a:xfrm>
            <a:off x="0" y="1125360"/>
            <a:ext cx="4030560" cy="33577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9" descr=""/>
          <p:cNvPicPr/>
          <p:nvPr/>
        </p:nvPicPr>
        <p:blipFill>
          <a:blip r:embed="rId2"/>
          <a:stretch/>
        </p:blipFill>
        <p:spPr>
          <a:xfrm>
            <a:off x="3851280" y="3587760"/>
            <a:ext cx="5292720" cy="327024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0"/>
          <p:cNvSpPr/>
          <p:nvPr/>
        </p:nvSpPr>
        <p:spPr>
          <a:xfrm>
            <a:off x="3895560" y="3213000"/>
            <a:ext cx="5213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Mincho"/>
              </a:rPr>
              <a:t>Sea level anomalies 2005-2010 vs 1995-20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1240" y="810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95" name="Picture 5" descr="TREND_ENEA-PROTHEUS_SSH_CYPRUS_1951_2050THERMOS_MED_ETAN_ADR"/>
          <p:cNvPicPr/>
          <p:nvPr/>
        </p:nvPicPr>
        <p:blipFill>
          <a:blip r:embed="rId1"/>
          <a:stretch/>
        </p:blipFill>
        <p:spPr>
          <a:xfrm>
            <a:off x="34920" y="120636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6" descr="MAP_ENEA-PROTHEUS_SSH_CYPRUS_2041-2050 vs 1971-1980ETAN_THERMO_MED"/>
          <p:cNvPicPr/>
          <p:nvPr/>
        </p:nvPicPr>
        <p:blipFill>
          <a:blip r:embed="rId2"/>
          <a:srcRect l="13688" t="0" r="11777" b="0"/>
          <a:stretch/>
        </p:blipFill>
        <p:spPr>
          <a:xfrm>
            <a:off x="4803840" y="2421000"/>
            <a:ext cx="4340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7:35:44Z</dcterms:created>
  <dc:creator>alex</dc:creator>
  <dc:description/>
  <dc:language>en-US</dc:language>
  <cp:lastModifiedBy>alex</cp:lastModifiedBy>
  <dcterms:modified xsi:type="dcterms:W3CDTF">2013-07-08T19:54:17Z</dcterms:modified>
  <cp:revision>26</cp:revision>
  <dc:subject/>
  <dc:title>Diapositiva 1</dc:title>
</cp:coreProperties>
</file>