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dt" idx="13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ftr" idx="14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 type="sldNum" idx="15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09F8718-7136-46E8-B35B-8B81A82F7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555A-0429-4632-B83E-0CAC64A31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25E0-D450-468B-A06D-E990656C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F548-793F-43CE-9D18-49961B18E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F250-469F-420D-8057-C46810D69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D89B-8AE7-4572-B640-C3A0F62A1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B1E6-B200-4AF0-8D11-6EF05646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1FAB-CD25-4122-B0BA-7652A626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439C-4C5F-42E3-8B45-C9CBF921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3D1C-F4D0-49C1-92E3-B7B9ED5C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BC04-688D-4E5A-989E-54FEB870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AACA-C425-492A-853F-30C42569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CDE9-8E69-43DB-9CC9-C70CF8D1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DF28-38DE-41BF-8821-29B95CE4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1E81F-DA17-4035-97FB-8D1A3B93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780C-7819-4283-ABE1-4597493D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84D6-0733-4C21-9A49-50B6C22AC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8014F-AEEF-4F08-81D5-CDEDE972E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6470B-0497-441D-A5A4-DDC7DDC51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C1C6D-4047-4D3F-A526-1CC54D87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BCB64-A560-45F6-9FBF-73466DAC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ADF24-3B08-4EE3-A165-F425526E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9B114-2820-4B9B-A8DE-DD61D3C4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087D-8C86-41D6-AD4C-86721634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C7086-FD86-4A72-BB8E-FB170912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3F699-8009-43C9-BFBA-C114184B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A069F-4009-4E7A-8AF7-1F00C490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25A43-C308-4B94-B34E-24636269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A4751-5C44-4821-BEB8-4BB0D255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4CC2B-F656-441A-9091-FAD6CB900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83990-6C25-42DB-81DB-0D5033978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188FE-A18C-4C6F-A255-E36F7D762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4F995-FA49-4717-B52A-906A1F28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EEFD8-A835-4D9C-B7D5-9229CD60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E071-B331-4C1B-9C7A-B8E61820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5FB53-311F-466A-B51F-552647FA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0BEF1-8CF0-4F0F-8C35-DB7C451C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A7C8D-B9CD-436C-8743-AACC29CA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1E9D4-3A02-40B2-9B95-60F51AEB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A9A47-B6F6-41B7-BCF7-93925AE7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E225B-44A2-4141-90BE-EC0DD777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1D162-605E-4CF7-81AA-F3FDAC4D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DD2ED-8987-49AC-A04A-48821221D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3EFAE-AA73-4D55-BF9C-E0A0C6C55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E9C0-44CE-46DF-8D8F-715ADBAE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8707-2EF5-4129-9A80-E6C2B3C1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188D-0A6D-4F19-8ED2-7C484C51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97AD-3222-432B-A132-EEA5AD66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EAFB-E28F-4E29-A903-A588FB8C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4F1C2CD-6209-4DBF-AF6F-02B2C926D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00807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1160" y="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160640" y="476280"/>
            <a:ext cx="49590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Forecasting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794800" y="108000"/>
            <a:ext cx="1214280" cy="79200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6985080" y="101520"/>
            <a:ext cx="1727280" cy="798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680"/>
            <a:ext cx="100807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26272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4EC7EB-1278-411F-B2F5-5E8B4E2663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1160" y="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66760" y="43164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Forecasting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4680"/>
            <a:ext cx="100807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26272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226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BFE060-9992-4E22-BFDF-7348375EB4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160" y="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166760" y="43164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Forecasting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4680"/>
            <a:ext cx="100807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26272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226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035FD3-EAC3-4EB6-AB4F-5C95D2824F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1160" y="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166760" y="43164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Forecasting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16000" y="1187280"/>
            <a:ext cx="9648720" cy="52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cadal climate prediction in the Mediterranean reg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ginie Guemas (1,2), Javier García-Serrano (1,3), Annarita Mariotti (4), Francisco Doblas-Reyes (1,5), Louis-Philippe Caron (1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218120"/>
                <a:tab algn="l" pos="8435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4000"/>
              </a:lnSpc>
              <a:tabLst>
                <a:tab algn="l" pos="0"/>
                <a:tab algn="l" pos="4218120"/>
                <a:tab algn="l" pos="8435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- Institut Català de Ciències del Clima, Barcelona, Sp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4000"/>
              </a:lnSpc>
              <a:tabLst>
                <a:tab algn="l" pos="0"/>
                <a:tab algn="l" pos="4218120"/>
                <a:tab algn="l" pos="8435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- Centre Nacional de Recherches Météorologiques, Groupe d’Etude de l’Atmosphère Météorologique, Météo-France, UMR3589, Toulouse,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4000"/>
              </a:lnSpc>
              <a:tabLst>
                <a:tab algn="l" pos="0"/>
                <a:tab algn="l" pos="4218120"/>
                <a:tab algn="l" pos="8435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- Laboratoire d’Océanographie et du Climat, UPMC, Paris,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4000"/>
              </a:lnSpc>
              <a:tabLst>
                <a:tab algn="l" pos="0"/>
                <a:tab algn="l" pos="4218120"/>
                <a:tab algn="l" pos="8435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- National Oceanic and Atmospheric Administration, Climate Program Office, Silver Spring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4000"/>
              </a:lnSpc>
              <a:tabLst>
                <a:tab algn="l" pos="0"/>
                <a:tab algn="l" pos="4218120"/>
                <a:tab algn="l" pos="8435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- Institució Catalana de Recerca i Estudis Avançats, Barcelona, Sp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4000"/>
              </a:lnSpc>
              <a:tabLst>
                <a:tab algn="l" pos="0"/>
                <a:tab algn="l" pos="4218120"/>
                <a:tab algn="l" pos="8435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- Swedish Meteorological and Hydrological Institute, Norrköping, Sw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diterranean cl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2720" y="6073920"/>
            <a:ext cx="649440" cy="86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33440" y="607392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o which extent will natural variability enhance or reduce externally-forced changes and for how lo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2720" y="2112840"/>
            <a:ext cx="928836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218120"/>
                <a:tab algn="l" pos="8435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diterranean region = one of the most sensitive to climage change in terms of warming and drying (Mariotti et al. 2008) --&gt; Source of predic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218120"/>
                <a:tab algn="l" pos="8435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218120"/>
                <a:tab algn="l" pos="8435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uring the 2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entury, decadal variability has modulated the climate change signal in the Mediterranean region (Mariotti and Dell’Aquila, 20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MV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08000" y="6526080"/>
            <a:ext cx="649440" cy="863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68360" y="6443640"/>
            <a:ext cx="77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kill in predicting the Atlantic Multidecadal Variability is enhanced by initial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rcRect l="1820" t="0" r="4853" b="46476"/>
          <a:stretch/>
        </p:blipFill>
        <p:spPr>
          <a:xfrm>
            <a:off x="863640" y="1744560"/>
            <a:ext cx="8294760" cy="372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5" name=""/>
          <p:cNvSpPr/>
          <p:nvPr/>
        </p:nvSpPr>
        <p:spPr>
          <a:xfrm>
            <a:off x="863640" y="55497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om García-Serrano et al. (2013), AMV = North Atlantic mean SST (80W-0, 0-60N) - global mean SST (60S-60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MO-related predic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6603840"/>
            <a:ext cx="649440" cy="863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20600" y="6588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trong connection between summer temperatures and AMO, weaker link in w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5" descr="cor_Ta_amo_djf_jan1850-dec2009_2d.eps"/>
          <p:cNvPicPr/>
          <p:nvPr/>
        </p:nvPicPr>
        <p:blipFill>
          <a:blip r:embed="rId1"/>
          <a:srcRect l="0" t="0" r="0" b="47320"/>
          <a:stretch/>
        </p:blipFill>
        <p:spPr>
          <a:xfrm>
            <a:off x="1655640" y="2368440"/>
            <a:ext cx="3448080" cy="1886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7" descr="MedTemp_AMO_djf_timeseries_1d.eps"/>
          <p:cNvPicPr/>
          <p:nvPr/>
        </p:nvPicPr>
        <p:blipFill>
          <a:blip r:embed="rId2"/>
          <a:stretch/>
        </p:blipFill>
        <p:spPr>
          <a:xfrm>
            <a:off x="1671480" y="4284720"/>
            <a:ext cx="3152880" cy="20145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8" descr="MedTemp_AMO_jja_timeseries_1d.eps"/>
          <p:cNvPicPr/>
          <p:nvPr/>
        </p:nvPicPr>
        <p:blipFill>
          <a:blip r:embed="rId3"/>
          <a:stretch/>
        </p:blipFill>
        <p:spPr>
          <a:xfrm>
            <a:off x="5192640" y="4286160"/>
            <a:ext cx="2943360" cy="2014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6" descr="cor_Ta_amo_jja_jan1850-dec2009_2d.eps"/>
          <p:cNvPicPr/>
          <p:nvPr/>
        </p:nvPicPr>
        <p:blipFill>
          <a:blip r:embed="rId4"/>
          <a:srcRect l="0" t="0" r="0" b="49428"/>
          <a:stretch/>
        </p:blipFill>
        <p:spPr>
          <a:xfrm>
            <a:off x="5040360" y="2367000"/>
            <a:ext cx="3468600" cy="1819080"/>
          </a:xfrm>
          <a:prstGeom prst="rect">
            <a:avLst/>
          </a:prstGeom>
          <a:ln w="0">
            <a:noFill/>
          </a:ln>
        </p:spPr>
      </p:pic>
      <p:sp>
        <p:nvSpPr>
          <p:cNvPr id="203" name="TextBox 2"/>
          <p:cNvSpPr/>
          <p:nvPr/>
        </p:nvSpPr>
        <p:spPr>
          <a:xfrm>
            <a:off x="3147480" y="2130480"/>
            <a:ext cx="4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J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3"/>
          <p:cNvSpPr/>
          <p:nvPr/>
        </p:nvSpPr>
        <p:spPr>
          <a:xfrm>
            <a:off x="6532560" y="21304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J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"/>
          <p:cNvSpPr/>
          <p:nvPr/>
        </p:nvSpPr>
        <p:spPr>
          <a:xfrm>
            <a:off x="2023200" y="1747800"/>
            <a:ext cx="59706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servational AMO-temperature correlation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36720" y="613080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 Mariotti and Dell’Aquila (201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5761080" y="1763640"/>
            <a:ext cx="3600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ecast years 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512720" y="1763640"/>
            <a:ext cx="36007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ecast years 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58200" y="3021840"/>
            <a:ext cx="2052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 I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6200000">
            <a:off x="-621000" y="5480280"/>
            <a:ext cx="25210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it – NoInit after detr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6177" r="4773" b="18530"/>
          <a:stretch/>
        </p:blipFill>
        <p:spPr>
          <a:xfrm>
            <a:off x="1081080" y="2235240"/>
            <a:ext cx="4249800" cy="20876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rcRect l="0" t="6177" r="4773" b="18530"/>
          <a:stretch/>
        </p:blipFill>
        <p:spPr>
          <a:xfrm>
            <a:off x="5398920" y="2235240"/>
            <a:ext cx="4249800" cy="20876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rcRect l="0" t="6177" r="4773" b="18530"/>
          <a:stretch/>
        </p:blipFill>
        <p:spPr>
          <a:xfrm>
            <a:off x="1081080" y="4932360"/>
            <a:ext cx="4249800" cy="20876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rcRect l="0" t="6177" r="4773" b="18530"/>
          <a:stretch/>
        </p:blipFill>
        <p:spPr>
          <a:xfrm>
            <a:off x="5397480" y="4932360"/>
            <a:ext cx="4249800" cy="20876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rcRect l="0" t="80303" r="0" b="6177"/>
          <a:stretch/>
        </p:blipFill>
        <p:spPr>
          <a:xfrm>
            <a:off x="1008000" y="4067280"/>
            <a:ext cx="8569440" cy="7887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079640" y="97164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kill in annual temperature from CMIP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6"/>
          <a:srcRect l="0" t="80303" r="0" b="6177"/>
          <a:stretch/>
        </p:blipFill>
        <p:spPr>
          <a:xfrm>
            <a:off x="934920" y="6737400"/>
            <a:ext cx="856944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rcRect l="0" t="80303" r="0" b="6177"/>
          <a:stretch/>
        </p:blipFill>
        <p:spPr>
          <a:xfrm>
            <a:off x="934920" y="6737400"/>
            <a:ext cx="8569440" cy="7873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 rot="16200000">
            <a:off x="-772920" y="2931480"/>
            <a:ext cx="2878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-521280" y="5637240"/>
            <a:ext cx="2374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oInit - I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rcRect l="0" t="6177" r="4773" b="18530"/>
          <a:stretch/>
        </p:blipFill>
        <p:spPr>
          <a:xfrm>
            <a:off x="1077840" y="4932360"/>
            <a:ext cx="4249800" cy="20876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rcRect l="0" t="6177" r="4773" b="18530"/>
          <a:stretch/>
        </p:blipFill>
        <p:spPr>
          <a:xfrm>
            <a:off x="5398920" y="4932360"/>
            <a:ext cx="4249800" cy="20876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rcRect l="0" t="6177" r="4773" b="18530"/>
          <a:stretch/>
        </p:blipFill>
        <p:spPr>
          <a:xfrm>
            <a:off x="1076400" y="2268360"/>
            <a:ext cx="4249800" cy="20876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5"/>
          <a:srcRect l="0" t="6177" r="4773" b="18530"/>
          <a:stretch/>
        </p:blipFill>
        <p:spPr>
          <a:xfrm>
            <a:off x="5400720" y="2266920"/>
            <a:ext cx="4249800" cy="20876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0" y="971640"/>
            <a:ext cx="100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rrelation annual temperature-AMV from CMIP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61080" y="1763640"/>
            <a:ext cx="3600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ecast years 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12720" y="1763640"/>
            <a:ext cx="36007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ecast years 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6"/>
          <a:srcRect l="0" t="80303" r="0" b="6177"/>
          <a:stretch/>
        </p:blipFill>
        <p:spPr>
          <a:xfrm>
            <a:off x="1008000" y="4067280"/>
            <a:ext cx="8569440" cy="788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ice</dc:creator>
  <dc:description/>
  <dc:language>en-US</dc:language>
  <cp:lastModifiedBy>Francisco Doblas-Reyes</cp:lastModifiedBy>
  <dcterms:modified xsi:type="dcterms:W3CDTF">2013-07-07T17:42:16Z</dcterms:modified>
  <cp:revision>289</cp:revision>
  <dc:subject/>
  <dc:title>Diapositiva 1</dc:title>
</cp:coreProperties>
</file>