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dt" idx="13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6E70D21-6561-4EB8-8396-A70EA153A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BE9-2653-40C7-A10D-ADE50512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AB3-968A-4C4F-97CE-78F13120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2EC-8E7A-40FF-A57C-2A08826B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602-58FD-48B4-B2C5-5243D872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82A7-B46E-4387-BEAB-C24DC99D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7B8C-6503-43AD-9E12-6A4C9947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550A-67C1-48DF-AD69-6A782313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611A-6FC6-44A4-890C-5D71D4D7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1E86-81AA-449B-9130-136E19C2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1DD1-095B-454E-A062-48D23754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C67F-D78E-40DE-B4F4-A3128607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F2C-DBE6-466E-AEB9-7CD517FD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EC4A-A9A8-41DA-A1F9-B012FA0C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AF27-6EC8-41B1-9F60-1C0F9F30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DF75-0D19-456E-819D-34882D4E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DFCD-7FBD-41EF-A36D-4B369281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2BD2-AA08-41E7-BF1B-58B1EA6F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6D0C-DA12-4472-BEFF-5037AE86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E9214-9A6B-44C9-9B76-9F19989E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19197-587C-47E5-A8EE-D71CD7DA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04A3A-4A7C-4A7E-8574-8756219C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E582F-B785-4F18-BA07-26E1783E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437-947D-43FD-A411-636599D7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6DB63-0013-4ADC-AF4A-1EB2C013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184DD-8E35-498F-9338-AC2E5CDD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6608D-611B-4A84-BC5C-FE9B8E7E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CC14-DB85-4440-B30C-26301F5F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1AA1-9841-4E5E-9A84-DC3BC521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B2D1D-E5BF-4CB7-8228-154996C4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A7FEB-6226-43B5-B23D-6080B5EC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CE1FB-DC2C-44FE-ABBA-4FE76132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8BAD7-8E73-49CD-B60F-28E74D5F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42FF7-DAC7-48FE-AEE2-05F16B19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1B2-8556-4681-B880-E5744F7C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76774-FBB8-47F4-BEB9-D80D3D04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02672-7078-4F15-B7F3-984244A0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E7E1C-157E-4EE9-887F-139DCD53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AD475-E465-4BEB-BE94-3FDB1695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22BFB-EB1E-4667-BB8E-7F3FBD69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FBDDC-F9BE-4318-91EE-6415F61F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06A6D-B4A2-42E1-B6BD-A72F8D61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63A99-D080-4398-8543-F1B2206F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A2403-89C1-4EF5-994A-333E7FE6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074-A9F6-4C92-9EDE-85F93B3C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413-22CB-407C-AE43-589C7A9B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039-35B1-4717-AAE8-57E4A460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F7A-109E-4048-BC9A-2C4EE576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DA94-69A5-4333-9742-8B9A296F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F316166-5B7F-48A6-85C9-2977E5E7C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60640" y="476280"/>
            <a:ext cx="495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794800" y="108000"/>
            <a:ext cx="1214280" cy="792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6985080" y="101520"/>
            <a:ext cx="172728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8F9D4-A8CB-4C45-8E1C-2461011A21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5FC6E-9AF2-48BA-998E-2D63E6494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EC902-4CCA-4707-A1F4-D1117145C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16000" y="1187280"/>
            <a:ext cx="964872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adal climate prediction in the Mediterranean re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e Guemas (1,2), Javier García-Serrano (1,3), Annarita Mariotti (4), Francisco Doblas-Reyes (1,5), Louis-Philippe Caron 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218120"/>
                <a:tab algn="l" pos="8435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- Institut Català de Ciències del Clima, Barcelona,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- Centre Nacional de Recherches Météorologiques, Groupe d’Etude de l’Atmosphère Météorologique, Météo-France, UMR3589, Toulouse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- Laboratoire d’Océanographie et du Climat, UPMC, Pari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- National Oceanic and Atmospheric Administration, Climate Program Office, Silver Spring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- Institució Catalana de Recerca i Estudis Avançats, Barcelona,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- Swedish Meteorological and Hydrological Institute, Norrköping, 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iterranean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2720" y="6073920"/>
            <a:ext cx="649440" cy="86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3440" y="607392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 which extent will natural variability enhance or reduce externally-forced changes and for how l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720" y="2112840"/>
            <a:ext cx="92883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diterranean region = one of the most sensitive to climage change in terms of warming and drying (Mariotti et al. 2008) --&gt; Source of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218120"/>
                <a:tab algn="l" pos="8435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ing the 2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entury, decadal variability has modulated the climate change signal in the Mediterranean region (Mariotti and Dell’Aquila,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MV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08000" y="6526080"/>
            <a:ext cx="6494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68360" y="644364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kill in predicting the Atlantic Multidecadal Variability is enhanced by initia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1820" t="0" r="4853" b="46476"/>
          <a:stretch/>
        </p:blipFill>
        <p:spPr>
          <a:xfrm>
            <a:off x="863640" y="1744560"/>
            <a:ext cx="8294760" cy="37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863640" y="55497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García-Serrano et al. (2013), AMV = North Atlantic mean SST (80W-0, 0-60N) - global mean SST (60S-60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MO-related predic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6603840"/>
            <a:ext cx="6494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20600" y="6588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ong connection between summer temperatures and AMO, weaker link in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5" descr="cor_Ta_amo_djf_jan1850-dec2009_2d.eps"/>
          <p:cNvPicPr/>
          <p:nvPr/>
        </p:nvPicPr>
        <p:blipFill>
          <a:blip r:embed="rId1"/>
          <a:srcRect l="0" t="0" r="0" b="47320"/>
          <a:stretch/>
        </p:blipFill>
        <p:spPr>
          <a:xfrm>
            <a:off x="1655640" y="2368440"/>
            <a:ext cx="3448080" cy="188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7" descr="MedTemp_AMO_djf_timeseries_1d.eps"/>
          <p:cNvPicPr/>
          <p:nvPr/>
        </p:nvPicPr>
        <p:blipFill>
          <a:blip r:embed="rId2"/>
          <a:stretch/>
        </p:blipFill>
        <p:spPr>
          <a:xfrm>
            <a:off x="1671480" y="4284720"/>
            <a:ext cx="3152880" cy="2014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8" descr="MedTemp_AMO_jja_timeseries_1d.eps"/>
          <p:cNvPicPr/>
          <p:nvPr/>
        </p:nvPicPr>
        <p:blipFill>
          <a:blip r:embed="rId3"/>
          <a:stretch/>
        </p:blipFill>
        <p:spPr>
          <a:xfrm>
            <a:off x="5192640" y="4286160"/>
            <a:ext cx="2943360" cy="2014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cor_Ta_amo_jja_jan1850-dec2009_2d.eps"/>
          <p:cNvPicPr/>
          <p:nvPr/>
        </p:nvPicPr>
        <p:blipFill>
          <a:blip r:embed="rId4"/>
          <a:srcRect l="0" t="0" r="0" b="49428"/>
          <a:stretch/>
        </p:blipFill>
        <p:spPr>
          <a:xfrm>
            <a:off x="5040360" y="2367000"/>
            <a:ext cx="3468600" cy="18190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3147480" y="213048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J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6532560" y="21304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2023200" y="1747800"/>
            <a:ext cx="597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al AMO-temperature correlation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36720" y="61308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Mariotti and Dell’Aquila (201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761080" y="1763640"/>
            <a:ext cx="360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years 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12720" y="1763640"/>
            <a:ext cx="3600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years 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58200" y="3021840"/>
            <a:ext cx="205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 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-621000" y="5480280"/>
            <a:ext cx="2521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it – NoInit after de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6177" r="4773" b="18530"/>
          <a:stretch/>
        </p:blipFill>
        <p:spPr>
          <a:xfrm>
            <a:off x="1081080" y="223524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0" t="6177" r="4773" b="18530"/>
          <a:stretch/>
        </p:blipFill>
        <p:spPr>
          <a:xfrm>
            <a:off x="5398920" y="223524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0" t="6177" r="4773" b="18530"/>
          <a:stretch/>
        </p:blipFill>
        <p:spPr>
          <a:xfrm>
            <a:off x="1081080" y="4932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0" t="6177" r="4773" b="18530"/>
          <a:stretch/>
        </p:blipFill>
        <p:spPr>
          <a:xfrm>
            <a:off x="5397480" y="4932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rcRect l="0" t="80303" r="0" b="6177"/>
          <a:stretch/>
        </p:blipFill>
        <p:spPr>
          <a:xfrm>
            <a:off x="1008000" y="4067280"/>
            <a:ext cx="8569440" cy="788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79640" y="971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kill in annual temperature from CMI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rcRect l="0" t="80303" r="0" b="6177"/>
          <a:stretch/>
        </p:blipFill>
        <p:spPr>
          <a:xfrm>
            <a:off x="934920" y="6737400"/>
            <a:ext cx="85694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0" t="80303" r="0" b="6177"/>
          <a:stretch/>
        </p:blipFill>
        <p:spPr>
          <a:xfrm>
            <a:off x="934920" y="6737400"/>
            <a:ext cx="8569440" cy="787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rot="16200000">
            <a:off x="-772920" y="2931480"/>
            <a:ext cx="2878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-521280" y="5637240"/>
            <a:ext cx="2374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Init - 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rcRect l="0" t="6177" r="4773" b="18530"/>
          <a:stretch/>
        </p:blipFill>
        <p:spPr>
          <a:xfrm>
            <a:off x="1077840" y="4932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rcRect l="0" t="6177" r="4773" b="18530"/>
          <a:stretch/>
        </p:blipFill>
        <p:spPr>
          <a:xfrm>
            <a:off x="5398920" y="4932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rcRect l="0" t="6177" r="4773" b="18530"/>
          <a:stretch/>
        </p:blipFill>
        <p:spPr>
          <a:xfrm>
            <a:off x="1076400" y="2268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rcRect l="0" t="6177" r="4773" b="18530"/>
          <a:stretch/>
        </p:blipFill>
        <p:spPr>
          <a:xfrm>
            <a:off x="5400720" y="2266920"/>
            <a:ext cx="4249800" cy="2087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971640"/>
            <a:ext cx="100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rrelation annual temperature-AMV from CMI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61080" y="1763640"/>
            <a:ext cx="360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years 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12720" y="1763640"/>
            <a:ext cx="3600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years 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6"/>
          <a:srcRect l="0" t="80303" r="0" b="6177"/>
          <a:stretch/>
        </p:blipFill>
        <p:spPr>
          <a:xfrm>
            <a:off x="1008000" y="4067280"/>
            <a:ext cx="8569440" cy="78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ce</dc:creator>
  <dc:description/>
  <dc:language>en-US</dc:language>
  <cp:lastModifiedBy>Francisco Doblas-Reyes</cp:lastModifiedBy>
  <dcterms:modified xsi:type="dcterms:W3CDTF">2013-07-07T17:42:16Z</dcterms:modified>
  <cp:revision>289</cp:revision>
  <dc:subject/>
  <dc:title>Diapositiva 1</dc:title>
</cp:coreProperties>
</file>