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dt" idx="13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103BB8A-F39D-462E-999B-0C9A7F7C2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021-E70A-4B89-9536-319B3D2C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7B27-EECD-4705-8E07-FF8BB9E0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DFB0-51E6-48B9-AA5D-EFF66DDE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7792-439B-4FA5-B95A-130A26CF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0073-1250-44B9-809A-744F58BA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4B3D-9CF2-45C4-9A3D-4845B863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63B2-EA9F-4E62-8515-2F60F17F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0A37-FDB7-4582-96DA-C6AEE55D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DE9C-781F-41B2-AC82-D005116D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E9A4-988F-483D-83F9-F745E4FA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B603-4216-4BAB-9493-5948F29F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5A0-6FF8-4241-BED3-FB3363D7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870F-BA74-484C-8EC2-A489632F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21A2-B587-4D38-BCCD-187DB42D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B6BB-107E-4A0C-A541-F9A6E161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7613-FE4A-4130-9516-80E03B38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E66E-7529-4B43-A89F-230C45ED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52ED5-44B6-4108-8A05-5D31B581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674A6-F5F5-4D15-89D4-B538331C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357E1-F7C6-496C-90CE-394ACF97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ADE6F-9A97-4D5F-B8C8-73F95574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9B6EC-20CA-46CB-85DC-757E92E3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FE73-2261-4833-B7DF-2D4164B2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EE83F-18FC-4D65-B279-622122B2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FFE33-AC51-4BE2-A845-A261085E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8308A-42DA-49C7-9A62-EA89B1D1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D0933-CDB6-4C54-94C4-8B801169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78491-CE4A-4570-AF05-954C868D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22A11-88C1-45C0-9313-FDC8E857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BAF90-D344-42FB-A1ED-9F82954B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551C3-35A7-490C-9D9B-5ED199D4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0513D-EA3D-4F7C-AFD3-2687E8AD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FB450-A6DA-44BE-B1BD-0E76C409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90F7-FCBD-433F-B55B-4EBC3676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38F29-BD2A-4341-A9BE-A8BC6D76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D4AB1-4B9C-4B40-8ED4-C52334A4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5D772-1EFB-4361-8BE1-3D86FA65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DE209-55EA-4938-AA26-26CB4485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0D700-D444-4E4A-AFBE-A78CA372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404D2-1865-4DE4-9720-05578D5C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A3A9C-7808-43D1-8611-FA71DFCD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39D08-E6DC-4FB3-BB4E-1CC0DD8C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BD2CD-97AB-43BA-9ED9-924CE391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103-2700-471E-994F-8AFB9B61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CBB2-7696-49D1-8A2B-434ABF8B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537C-ADAE-4294-B4E8-7018B1FA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7C7D-1026-44BE-8DA5-A406A007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169E-ED29-4752-BF9C-2E1F93F2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CDDE1DE-BF27-4362-9384-9E8A1C65D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160640" y="476280"/>
            <a:ext cx="4959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794800" y="108000"/>
            <a:ext cx="1214280" cy="792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6985080" y="101520"/>
            <a:ext cx="1727280" cy="79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D6F8E-DE3F-4002-A2A4-268EB1453E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DBFA6-83D2-43AE-8442-A0B4FF0DD5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7B28A-7772-446A-815F-D456C40000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16000" y="1187280"/>
            <a:ext cx="964872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adal climate prediction in the Mediterranean reg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ginie Guemas (1,2), Javier García-Serrano (1,3), Annarita Mariotti (4), Francisco Doblas-Reyes (1,5), Louis-Philippe Caron (1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218120"/>
                <a:tab algn="l" pos="8435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4000"/>
              </a:lnSpc>
              <a:tabLst>
                <a:tab algn="l" pos="0"/>
                <a:tab algn="l" pos="4218120"/>
                <a:tab algn="l" pos="8435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- Institut Català de Ciències del Clima, Barcelona,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4000"/>
              </a:lnSpc>
              <a:tabLst>
                <a:tab algn="l" pos="0"/>
                <a:tab algn="l" pos="4218120"/>
                <a:tab algn="l" pos="8435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- Centre Nacional de Recherches Météorologiques, Groupe d’Etude de l’Atmosphère Météorologique, Météo-France, UMR3589, Toulouse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4000"/>
              </a:lnSpc>
              <a:tabLst>
                <a:tab algn="l" pos="0"/>
                <a:tab algn="l" pos="4218120"/>
                <a:tab algn="l" pos="8435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- Laboratoire d’Océanographie et du Climat, UPMC, Paris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4000"/>
              </a:lnSpc>
              <a:tabLst>
                <a:tab algn="l" pos="0"/>
                <a:tab algn="l" pos="4218120"/>
                <a:tab algn="l" pos="8435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- National Oceanic and Atmospheric Administration, Climate Program Office, Silver Spring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4000"/>
              </a:lnSpc>
              <a:tabLst>
                <a:tab algn="l" pos="0"/>
                <a:tab algn="l" pos="4218120"/>
                <a:tab algn="l" pos="8435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- Institució Catalana de Recerca i Estudis Avançats, Barcelona,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4000"/>
              </a:lnSpc>
              <a:tabLst>
                <a:tab algn="l" pos="0"/>
                <a:tab algn="l" pos="4218120"/>
                <a:tab algn="l" pos="8435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- Swedish Meteorological and Hydrological Institute, Norrköping, Sw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diterranean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2720" y="6073920"/>
            <a:ext cx="649440" cy="86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3440" y="607392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 which extent will natural variability enhance or reduce externally-forced changes and for how l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2720" y="2112840"/>
            <a:ext cx="92883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218120"/>
                <a:tab algn="l" pos="8435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diterranean region = one of the most sensitive to climage change in terms of warming and drying (Mariotti et al. 2008) --&gt; Source of predic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218120"/>
                <a:tab algn="l" pos="8435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218120"/>
                <a:tab algn="l" pos="8435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ing the 2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entury, decadal variability has modulated the climate change signal in the Mediterranean region (Mariotti and Dell’Aquila,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MV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08000" y="6526080"/>
            <a:ext cx="64944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68360" y="644364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kill in predicting the Atlantic Multidecadal Variability is enhanced by initia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1820" t="0" r="4853" b="46476"/>
          <a:stretch/>
        </p:blipFill>
        <p:spPr>
          <a:xfrm>
            <a:off x="863640" y="1744560"/>
            <a:ext cx="8294760" cy="372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863640" y="55497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García-Serrano et al. (2013), AMV = North Atlantic mean SST (80W-0, 0-60N) - global mean SST (60S-60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MO-related predic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6603840"/>
            <a:ext cx="64944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20600" y="6588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trong connection between summer temperatures and AMO, weaker link in w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5" descr="cor_Ta_amo_djf_jan1850-dec2009_2d.eps"/>
          <p:cNvPicPr/>
          <p:nvPr/>
        </p:nvPicPr>
        <p:blipFill>
          <a:blip r:embed="rId1"/>
          <a:srcRect l="0" t="0" r="0" b="47320"/>
          <a:stretch/>
        </p:blipFill>
        <p:spPr>
          <a:xfrm>
            <a:off x="1655640" y="2368440"/>
            <a:ext cx="3448080" cy="1886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7" descr="MedTemp_AMO_djf_timeseries_1d.eps"/>
          <p:cNvPicPr/>
          <p:nvPr/>
        </p:nvPicPr>
        <p:blipFill>
          <a:blip r:embed="rId2"/>
          <a:stretch/>
        </p:blipFill>
        <p:spPr>
          <a:xfrm>
            <a:off x="1671480" y="4284720"/>
            <a:ext cx="3152880" cy="2014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8" descr="MedTemp_AMO_jja_timeseries_1d.eps"/>
          <p:cNvPicPr/>
          <p:nvPr/>
        </p:nvPicPr>
        <p:blipFill>
          <a:blip r:embed="rId3"/>
          <a:stretch/>
        </p:blipFill>
        <p:spPr>
          <a:xfrm>
            <a:off x="5192640" y="4286160"/>
            <a:ext cx="2943360" cy="2014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6" descr="cor_Ta_amo_jja_jan1850-dec2009_2d.eps"/>
          <p:cNvPicPr/>
          <p:nvPr/>
        </p:nvPicPr>
        <p:blipFill>
          <a:blip r:embed="rId4"/>
          <a:srcRect l="0" t="0" r="0" b="49428"/>
          <a:stretch/>
        </p:blipFill>
        <p:spPr>
          <a:xfrm>
            <a:off x="5040360" y="2367000"/>
            <a:ext cx="3468600" cy="18190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"/>
          <p:cNvSpPr/>
          <p:nvPr/>
        </p:nvSpPr>
        <p:spPr>
          <a:xfrm>
            <a:off x="3147480" y="213048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J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6532560" y="21304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2023200" y="1747800"/>
            <a:ext cx="5970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ational AMO-temperature correlation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36720" y="61308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Mariotti and Dell’Aquila (201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761080" y="1763640"/>
            <a:ext cx="3600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cast years 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12720" y="1763640"/>
            <a:ext cx="3600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cast years 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58200" y="3021840"/>
            <a:ext cx="2052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 I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-621000" y="5480280"/>
            <a:ext cx="2521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it – NoInit after de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6177" r="4773" b="18530"/>
          <a:stretch/>
        </p:blipFill>
        <p:spPr>
          <a:xfrm>
            <a:off x="1081080" y="223524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0" t="6177" r="4773" b="18530"/>
          <a:stretch/>
        </p:blipFill>
        <p:spPr>
          <a:xfrm>
            <a:off x="5398920" y="223524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rcRect l="0" t="6177" r="4773" b="18530"/>
          <a:stretch/>
        </p:blipFill>
        <p:spPr>
          <a:xfrm>
            <a:off x="1081080" y="493236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rcRect l="0" t="6177" r="4773" b="18530"/>
          <a:stretch/>
        </p:blipFill>
        <p:spPr>
          <a:xfrm>
            <a:off x="5397480" y="493236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rcRect l="0" t="80303" r="0" b="6177"/>
          <a:stretch/>
        </p:blipFill>
        <p:spPr>
          <a:xfrm>
            <a:off x="1008000" y="4067280"/>
            <a:ext cx="8569440" cy="7887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079640" y="97164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kill in annual temperature from CMIP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rcRect l="0" t="80303" r="0" b="6177"/>
          <a:stretch/>
        </p:blipFill>
        <p:spPr>
          <a:xfrm>
            <a:off x="934920" y="6737400"/>
            <a:ext cx="856944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rcRect l="0" t="80303" r="0" b="6177"/>
          <a:stretch/>
        </p:blipFill>
        <p:spPr>
          <a:xfrm>
            <a:off x="934920" y="6737400"/>
            <a:ext cx="8569440" cy="787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 rot="16200000">
            <a:off x="-772920" y="2931480"/>
            <a:ext cx="2878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-521280" y="5637240"/>
            <a:ext cx="2374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Init - I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rcRect l="0" t="6177" r="4773" b="18530"/>
          <a:stretch/>
        </p:blipFill>
        <p:spPr>
          <a:xfrm>
            <a:off x="1077840" y="493236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rcRect l="0" t="6177" r="4773" b="18530"/>
          <a:stretch/>
        </p:blipFill>
        <p:spPr>
          <a:xfrm>
            <a:off x="5398920" y="493236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rcRect l="0" t="6177" r="4773" b="18530"/>
          <a:stretch/>
        </p:blipFill>
        <p:spPr>
          <a:xfrm>
            <a:off x="1076400" y="226836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rcRect l="0" t="6177" r="4773" b="18530"/>
          <a:stretch/>
        </p:blipFill>
        <p:spPr>
          <a:xfrm>
            <a:off x="5400720" y="2266920"/>
            <a:ext cx="4249800" cy="2087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971640"/>
            <a:ext cx="100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rrelation annual temperature-AMV from CMIP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61080" y="1763640"/>
            <a:ext cx="3600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cast years 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12720" y="1763640"/>
            <a:ext cx="3600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cast years 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6"/>
          <a:srcRect l="0" t="80303" r="0" b="6177"/>
          <a:stretch/>
        </p:blipFill>
        <p:spPr>
          <a:xfrm>
            <a:off x="1008000" y="4067280"/>
            <a:ext cx="8569440" cy="78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ice</dc:creator>
  <dc:description/>
  <dc:language>en-US</dc:language>
  <cp:lastModifiedBy>Francisco Doblas-Reyes</cp:lastModifiedBy>
  <dcterms:modified xsi:type="dcterms:W3CDTF">2013-07-07T17:42:16Z</dcterms:modified>
  <cp:revision>289</cp:revision>
  <dc:subject/>
  <dc:title>Diapositiva 1</dc:title>
</cp:coreProperties>
</file>