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dt" idx="13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5C95B56-6935-43C4-8AAC-37B492D5C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35E-6991-4948-8950-36AA4637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754-5679-43C5-919D-66D6EB1D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EDA-39F5-4E76-AE6E-4A4053CB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B0AE-F63E-4F1C-A5AE-17797762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4C56-66C0-4B48-BCB2-64C67EC6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CDC3-B373-4B69-AB6D-3369D96E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F0BF-979A-4CFA-B1A5-F982AA7B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72FA-EDE1-4951-BD7B-4EDB38B6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3C9C-CAE7-4403-84E4-4490DD72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979D-C1FE-45DF-8F91-1BD0FF9A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2FB2-91A4-435C-A6A4-FD14F179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351-1669-4B13-B22C-B28A6FD2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8F39-5704-4ABB-B698-F16915C8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0586-8F06-4C02-A872-89E57724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75A8-AEBB-42A0-BAA2-319793F9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F0B3-ED31-49B7-91F6-3DA8160A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04BF-C173-4BD0-95BB-740D3B95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BC78-0352-4C45-A05F-1401D651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4CD3-FA82-4D45-BBDE-6EFFB82B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929D-F52B-4C6A-9FE5-79703F5A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E8C4-2408-4AD3-9A74-05D931E9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219F-0BD5-4C90-B94D-E1BC9740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F7B-62E8-49DB-B993-B9304BC5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EFFC-44B7-42F5-947E-45A3881A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ED490-B365-41D6-AEE7-631E0CCE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1AABF-4197-48FC-8C3F-10F53021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8C302-1B2E-4A8F-9BB4-546D6B5F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22C29-F21D-4170-ADF9-1883269C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1B884-E603-4DA8-A9E4-C715CB7F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BFE4-03EF-452F-AE5F-7DEF44FB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F1A25-73F9-48F1-8C1B-9801941D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0DC29-4284-47E9-BA68-C4322BA7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EF6A-FE60-4FBE-8F92-8B67156E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BAE-27E5-49E2-92B2-559393F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E1A5F-F622-4EA6-9963-A2485B37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EF209-435A-492A-BC48-85B1E8A5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F2C84-0215-4C3C-9DAF-F1B3B8B4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D17C-3B1C-4C50-8456-88268C03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D3F83-583C-43B0-B5FC-5B762B4F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BD53-8615-49B6-86A1-1A7C1969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2F0AE-9EF1-4110-B0EF-EDA1A706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95C9F-519A-4FAC-AA8F-65397847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AE170-6761-45A7-9BD5-011BB0C5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A4C-A0CB-4044-B1FA-EA391555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542-A026-44FE-8199-120AA8CE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3EC-EE50-4FBC-9E83-53DA6765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D99-6D26-4395-8AD3-CE7FACDA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3F3-82B2-4F1F-85DA-5AE86653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D693816-2E7C-4076-8663-9537B43FB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60640" y="476280"/>
            <a:ext cx="495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794800" y="108000"/>
            <a:ext cx="1214280" cy="792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985080" y="101520"/>
            <a:ext cx="172728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D3C35-1D73-4299-81A4-8E912FFF1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F138C-12F7-4A11-8095-7696A981C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4680"/>
            <a:ext cx="10080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6272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226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AA8CB-3BCB-4462-BE92-78C19901B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66760" y="4316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mate Forecasting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6000" y="1187280"/>
            <a:ext cx="964872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adal climate prediction in the Mediterranean r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ginie Guemas (1,2), Javier García-Serrano (1,3), Annarita Mariotti (4), Francisco Doblas-Reyes (1,5), Louis-Philippe Caron (1,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Institut Català de Ciències del Clima, Barcelona,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- Centre Nacional de Recherches Météorologiques, Groupe d’Etude de l’Atmosphère Météorologique, Météo-France, UMR3589, Toulouse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- Laboratoire d’Océanographie et du Climat, UPMC, Pari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- National Oceanic and Atmospheric Administration, Climate Program Office, Silver Spring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- Institució Catalana de Recerca i Estudis Avançats, Barcelona, S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4000"/>
              </a:lnSpc>
              <a:tabLst>
                <a:tab algn="l" pos="0"/>
                <a:tab algn="l" pos="4218120"/>
                <a:tab algn="l" pos="8435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- Swedish Meteorological and Hydrological Institute, Norrköping, 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diterranean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2720" y="6073920"/>
            <a:ext cx="649440" cy="86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3440" y="607392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 which extent will natural variability enhance or reduce externally-forced changes and for how l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2720" y="2112840"/>
            <a:ext cx="92883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diterranean region = one of the most sensitive to climage change in terms of warming and drying (Mariotti et al. 2008) --&gt; Source of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18120"/>
                <a:tab algn="l" pos="8435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ing the 2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entury, decadal variability has modulated the climate change signal in the Mediterranean region (Mariotti and Dell’Aquila,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V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08000" y="6526080"/>
            <a:ext cx="6494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68360" y="644364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kill in predicting the Atlantic Multidecadal Variability is enhanced by initia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1820" t="0" r="4853" b="46476"/>
          <a:stretch/>
        </p:blipFill>
        <p:spPr>
          <a:xfrm>
            <a:off x="863640" y="1744560"/>
            <a:ext cx="8294760" cy="37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863640" y="55497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García-Serrano et al. (2013), AMV = North Atlantic mean SST (80W-0, 0-60N) - global mean SST (60S-60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090440"/>
            <a:ext cx="1008072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O-related predic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6603840"/>
            <a:ext cx="64944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20600" y="6588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ong connection between summer temperatures and AMO, weaker link in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5" descr="cor_Ta_amo_djf_jan1850-dec2009_2d.eps"/>
          <p:cNvPicPr/>
          <p:nvPr/>
        </p:nvPicPr>
        <p:blipFill>
          <a:blip r:embed="rId1"/>
          <a:srcRect l="0" t="0" r="0" b="47320"/>
          <a:stretch/>
        </p:blipFill>
        <p:spPr>
          <a:xfrm>
            <a:off x="1655640" y="2368440"/>
            <a:ext cx="3448080" cy="188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7" descr="MedTemp_AMO_djf_timeseries_1d.eps"/>
          <p:cNvPicPr/>
          <p:nvPr/>
        </p:nvPicPr>
        <p:blipFill>
          <a:blip r:embed="rId2"/>
          <a:stretch/>
        </p:blipFill>
        <p:spPr>
          <a:xfrm>
            <a:off x="1671480" y="4284720"/>
            <a:ext cx="3152880" cy="2014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8" descr="MedTemp_AMO_jja_timeseries_1d.eps"/>
          <p:cNvPicPr/>
          <p:nvPr/>
        </p:nvPicPr>
        <p:blipFill>
          <a:blip r:embed="rId3"/>
          <a:stretch/>
        </p:blipFill>
        <p:spPr>
          <a:xfrm>
            <a:off x="5192640" y="4286160"/>
            <a:ext cx="2943360" cy="2014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6" descr="cor_Ta_amo_jja_jan1850-dec2009_2d.eps"/>
          <p:cNvPicPr/>
          <p:nvPr/>
        </p:nvPicPr>
        <p:blipFill>
          <a:blip r:embed="rId4"/>
          <a:srcRect l="0" t="0" r="0" b="49428"/>
          <a:stretch/>
        </p:blipFill>
        <p:spPr>
          <a:xfrm>
            <a:off x="5040360" y="2367000"/>
            <a:ext cx="3468600" cy="1819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3147480" y="213048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J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6532560" y="21304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2023200" y="1747800"/>
            <a:ext cx="597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ational AMO-temperature correlation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36720" y="61308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Mariotti and Dell’Aquila (201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761080" y="1763640"/>
            <a:ext cx="36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12720" y="1763640"/>
            <a:ext cx="3600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58200" y="3021840"/>
            <a:ext cx="205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 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-621000" y="5480280"/>
            <a:ext cx="2521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it – NoInit after de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6177" r="4773" b="18530"/>
          <a:stretch/>
        </p:blipFill>
        <p:spPr>
          <a:xfrm>
            <a:off x="1081080" y="223524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6177" r="4773" b="18530"/>
          <a:stretch/>
        </p:blipFill>
        <p:spPr>
          <a:xfrm>
            <a:off x="5398920" y="223524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0" t="6177" r="4773" b="18530"/>
          <a:stretch/>
        </p:blipFill>
        <p:spPr>
          <a:xfrm>
            <a:off x="108108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0" t="6177" r="4773" b="18530"/>
          <a:stretch/>
        </p:blipFill>
        <p:spPr>
          <a:xfrm>
            <a:off x="539748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rcRect l="0" t="80303" r="0" b="6177"/>
          <a:stretch/>
        </p:blipFill>
        <p:spPr>
          <a:xfrm>
            <a:off x="1008000" y="4067280"/>
            <a:ext cx="8569440" cy="788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079640" y="971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kill in annual temperature from CMI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rcRect l="0" t="80303" r="0" b="6177"/>
          <a:stretch/>
        </p:blipFill>
        <p:spPr>
          <a:xfrm>
            <a:off x="934920" y="6737400"/>
            <a:ext cx="856944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rcRect l="0" t="80303" r="0" b="6177"/>
          <a:stretch/>
        </p:blipFill>
        <p:spPr>
          <a:xfrm>
            <a:off x="934920" y="6737400"/>
            <a:ext cx="8569440" cy="787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 rot="16200000">
            <a:off x="-772920" y="2931480"/>
            <a:ext cx="2878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-521280" y="5637240"/>
            <a:ext cx="2374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Init - I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rcRect l="0" t="6177" r="4773" b="18530"/>
          <a:stretch/>
        </p:blipFill>
        <p:spPr>
          <a:xfrm>
            <a:off x="107784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rcRect l="0" t="6177" r="4773" b="18530"/>
          <a:stretch/>
        </p:blipFill>
        <p:spPr>
          <a:xfrm>
            <a:off x="5398920" y="4932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rcRect l="0" t="6177" r="4773" b="18530"/>
          <a:stretch/>
        </p:blipFill>
        <p:spPr>
          <a:xfrm>
            <a:off x="1076400" y="2268360"/>
            <a:ext cx="4249800" cy="208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rcRect l="0" t="6177" r="4773" b="18530"/>
          <a:stretch/>
        </p:blipFill>
        <p:spPr>
          <a:xfrm>
            <a:off x="5400720" y="2266920"/>
            <a:ext cx="4249800" cy="208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971640"/>
            <a:ext cx="100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rrelation annual temperature-AMV from CMI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61080" y="1763640"/>
            <a:ext cx="360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12720" y="1763640"/>
            <a:ext cx="3600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218120"/>
                <a:tab algn="l" pos="8435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years 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6"/>
          <a:srcRect l="0" t="80303" r="0" b="6177"/>
          <a:stretch/>
        </p:blipFill>
        <p:spPr>
          <a:xfrm>
            <a:off x="1008000" y="4067280"/>
            <a:ext cx="8569440" cy="78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ce</dc:creator>
  <dc:description/>
  <dc:language>en-US</dc:language>
  <cp:lastModifiedBy>Francisco Doblas-Reyes</cp:lastModifiedBy>
  <dcterms:modified xsi:type="dcterms:W3CDTF">2013-07-07T17:42:16Z</dcterms:modified>
  <cp:revision>289</cp:revision>
  <dc:subject/>
  <dc:title>Diapositiva 1</dc:title>
</cp:coreProperties>
</file>