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D5D9-383C-4FCD-9745-E91951C17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35B8-32CD-405B-9F03-253A3871D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1B8A-A621-4466-9F0B-DAC37F16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F93-EB3E-4078-A00F-8D58C33B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604-02E2-4338-8F34-C2FA09AD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8B5-26B2-474D-8F94-4414C513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D773-EB99-456A-A974-0DFBF127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2509-154E-442D-AA18-67CAFBEB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CEE-4929-4D92-883B-D679B519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BA80-149A-4407-A06A-613EC4DB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C14A-C322-4152-A5D6-311BAF0D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A9A5-6DDB-4D0D-A172-890A3081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677A-ABE3-4D40-B8E3-7676180D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E85-98BA-453F-9EF7-F4253428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B5D5-A243-4617-A64D-C125934BE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3.wmf"/><Relationship Id="rId5" Type="http://schemas.openxmlformats.org/officeDocument/2006/relationships/image" Target="../media/image4.png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92280" y="657360"/>
            <a:ext cx="62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lim-Run: 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urism in Croat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09480" y="1504800"/>
            <a:ext cx="8001000" cy="40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Čedo Brankovi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mic Sans MS"/>
              </a:rPr>
              <a:t>Croatian Meteorological and Hydrological Service (DHM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mic Sans MS"/>
              </a:rPr>
              <a:t>Grič 3, 10000 Zagreb, Croat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1" lang="en-GB" sz="1600" spc="-1" strike="noStrike">
                <a:solidFill>
                  <a:srgbClr val="3333cc"/>
                </a:solidFill>
                <a:latin typeface="Comic Sans MS"/>
              </a:rPr>
              <a:t>cedo.brankovic@cirus.dhz.hr</a:t>
            </a:r>
            <a:r>
              <a:rPr b="1" lang="hr-HR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Caroline Brosy, Marjana Gajić-Čapka, Ivan G</a:t>
            </a: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ü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ttler, Kristian Horvath, Vladimir Kalinsk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Robert Pašičko, Mirta Patarčić, Melita Perčec-Tadić, Lidija Srnec, Ksenija Zaninović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51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8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55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Rectangle 5"/>
          <p:cNvSpPr/>
          <p:nvPr/>
        </p:nvSpPr>
        <p:spPr>
          <a:xfrm>
            <a:off x="0" y="150840"/>
            <a:ext cx="9144000" cy="55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ummary on Croatia’s tourism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Most of Croatia’s tourism is based on sun and sea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96% of the tourism trade is generated in the Adriatic counties which have the most favourab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lim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The structure of tourist facilities is very une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Nearly 50% of beds are available in private households, 25% in camps and only 13% in hote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(of which 4* and 5* hotels make only 4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The tourism sector permanently employs about 95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7% of country’s total work forc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In 2012, the total number of arrivals was 11.5 mill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About one third in private househo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Total spending accumulated to 7.3 billion Eu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Croatia’s tourism is characterised by pronounced seasonality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–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n 2012, 87% of nights was realised in the period June to September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4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60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Rectangle 5"/>
          <p:cNvSpPr/>
          <p:nvPr/>
        </p:nvSpPr>
        <p:spPr>
          <a:xfrm>
            <a:off x="0" y="150840"/>
            <a:ext cx="91440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ummary of replies to tourism questionnaire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Respond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7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nterviews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9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ounty tourism associations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7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at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the 1</a:t>
            </a:r>
            <a:r>
              <a:rPr b="1" lang="en-GB" sz="1400" spc="-1" strike="noStrike" baseline="30000">
                <a:solidFill>
                  <a:srgbClr val="3333cc"/>
                </a:solidFill>
                <a:latin typeface="Comic Sans MS"/>
              </a:rPr>
              <a:t>st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Workshop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(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over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60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nvitations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Min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stry of Tourism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roatian National Tourist Board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1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national park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3 hotel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groups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local community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I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nstitute for Tourism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onsultancy company, health tourism expert,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ndependent consul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Replies</a:t>
            </a:r>
            <a:r>
              <a:rPr b="1" lang="hr-HR" sz="16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limate variability and extreme events affect business activities (except one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limate-related risks are important or very importa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Of most importance are droughts, water quality, storms, atmospheric pollution, los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biodiversity, coastal erosion, sea level 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But also: extreme events, inter-seasonal variability and change of length of (holiday) seaso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.e. the beginning and the end of season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Most of respondents use only daily weather forecast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The future climate change are envisaged to have largest impact on outdoor activities (inclu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amping), investment in energy efficiency and may pose a threat to natural attractive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(e.g. in national parks)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Most important climate parameter is precipitation (about 75% of all responses) followed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temperature, extreme weather events and winds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6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0" y="150840"/>
            <a:ext cx="9144000" cy="62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 development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Defining stakeholders’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Based on the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questionnaire replies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, it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was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possible to only broadly define stakeholders’ nee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For many users, extension of the peak season to shoulder seasons is the most “appealing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onsequence of potential climate chan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climate change should not be always associated with negative conno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Croatia may be in a relatively better position when compared with other Mediterran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ompeti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A comprehensive measure that defines a human (instinctive) </a:t>
            </a:r>
            <a:r>
              <a:rPr b="1" lang="en-GB" sz="1400" spc="-1" strike="noStrike" u="sng">
                <a:solidFill>
                  <a:srgbClr val="ff3300"/>
                </a:solidFill>
                <a:uFillTx/>
                <a:latin typeface="Comic Sans MS"/>
              </a:rPr>
              <a:t>perception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of climate at cert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location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(for various time interva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based on fact that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most tourists appreciate climate through the sense of comfort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(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pleasu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tourist comfort index (TCI)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- or any derivative - for both present and future clim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seems to be a quantity that would appropriately satisfy needs of most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ourism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stakeholders in Croat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it could be defined for any location (region) and any time period (week, month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sea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it may look complex (because it includes various climatic parameters) but there are 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to make it simple and widely acceptable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66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4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70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Rectangle 5"/>
          <p:cNvSpPr/>
          <p:nvPr/>
        </p:nvSpPr>
        <p:spPr>
          <a:xfrm>
            <a:off x="0" y="150840"/>
            <a:ext cx="91440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 development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PET – Physiologically Equvalent Temperature (thermal impact on huma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Derived from the equation of thermal balance between human body and th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Easy interpretation of resul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Includes thermal sensation scale ranging from “very cold” to “very war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24"/>
          <p:cNvGrpSpPr/>
          <p:nvPr/>
        </p:nvGrpSpPr>
        <p:grpSpPr>
          <a:xfrm>
            <a:off x="2505240" y="3070080"/>
            <a:ext cx="4430520" cy="3070440"/>
            <a:chOff x="2505240" y="3070080"/>
            <a:chExt cx="4430520" cy="3070440"/>
          </a:xfrm>
        </p:grpSpPr>
        <p:grpSp>
          <p:nvGrpSpPr>
            <p:cNvPr id="75" name="Group 9"/>
            <p:cNvGrpSpPr/>
            <p:nvPr/>
          </p:nvGrpSpPr>
          <p:grpSpPr>
            <a:xfrm>
              <a:off x="2505240" y="3070080"/>
              <a:ext cx="4430520" cy="3070440"/>
              <a:chOff x="2505240" y="3070080"/>
              <a:chExt cx="4430520" cy="3070440"/>
            </a:xfrm>
          </p:grpSpPr>
          <p:pic>
            <p:nvPicPr>
              <p:cNvPr id="76" name="Picture 10" descr=""/>
              <p:cNvPicPr/>
              <p:nvPr/>
            </p:nvPicPr>
            <p:blipFill>
              <a:blip r:embed="rId4"/>
              <a:srcRect l="0" t="0" r="0" b="2426"/>
              <a:stretch/>
            </p:blipFill>
            <p:spPr>
              <a:xfrm>
                <a:off x="2505240" y="3070080"/>
                <a:ext cx="4430520" cy="307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2544480" y="3108240"/>
                <a:ext cx="1612800" cy="9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2583000" y="4118760"/>
                <a:ext cx="1612800" cy="9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4254120" y="4118760"/>
                <a:ext cx="1612800" cy="9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Pictur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3555000" y="5130000"/>
                <a:ext cx="1612800" cy="9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Picture 15" descr=""/>
              <p:cNvPicPr/>
              <p:nvPr/>
            </p:nvPicPr>
            <p:blipFill>
              <a:blip r:embed="rId9"/>
              <a:stretch/>
            </p:blipFill>
            <p:spPr>
              <a:xfrm>
                <a:off x="5265360" y="5130000"/>
                <a:ext cx="1612800" cy="98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Text Box 17"/>
            <p:cNvSpPr/>
            <p:nvPr/>
          </p:nvSpPr>
          <p:spPr>
            <a:xfrm>
              <a:off x="3456720" y="3531960"/>
              <a:ext cx="56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Rovin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3278160" y="4458960"/>
              <a:ext cx="83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Mali Lošin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5225400" y="443988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Zad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4582800" y="557604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Hv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21"/>
            <p:cNvSpPr/>
            <p:nvPr/>
          </p:nvSpPr>
          <p:spPr>
            <a:xfrm>
              <a:off x="5978520" y="5521320"/>
              <a:ext cx="80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Dubrovni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" name="Picture 16" descr=""/>
          <p:cNvPicPr/>
          <p:nvPr/>
        </p:nvPicPr>
        <p:blipFill>
          <a:blip r:embed="rId10"/>
          <a:srcRect l="-526" t="-2215" r="-526" b="-2215"/>
          <a:stretch/>
        </p:blipFill>
        <p:spPr>
          <a:xfrm>
            <a:off x="2995560" y="2246400"/>
            <a:ext cx="3425760" cy="8427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5"/>
          <p:cNvSpPr/>
          <p:nvPr/>
        </p:nvSpPr>
        <p:spPr>
          <a:xfrm>
            <a:off x="391680" y="6377040"/>
            <a:ext cx="244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Ksenija Zaninović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(DHM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455760" y="3379680"/>
            <a:ext cx="217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y-axis: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percentag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        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0" y="150840"/>
            <a:ext cx="914400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 development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CIT – Climate Index for Tourism – integrates thermal, aesthetic and physical p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Thermal part measures energy balance human body-atmosp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Aesthetic part is sky condition: from clear to over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Physical components are wind and r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CIT describes quality of climate conditions for activities for which it is specifically de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7"/>
          <p:cNvGrpSpPr/>
          <p:nvPr/>
        </p:nvGrpSpPr>
        <p:grpSpPr>
          <a:xfrm>
            <a:off x="1268280" y="3649680"/>
            <a:ext cx="2424240" cy="1009800"/>
            <a:chOff x="1268280" y="3649680"/>
            <a:chExt cx="2424240" cy="1009800"/>
          </a:xfrm>
        </p:grpSpPr>
        <p:sp>
          <p:nvSpPr>
            <p:cNvPr id="92" name="Text Box 6"/>
            <p:cNvSpPr/>
            <p:nvPr/>
          </p:nvSpPr>
          <p:spPr>
            <a:xfrm>
              <a:off x="1414080" y="4413240"/>
              <a:ext cx="99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unaccep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7"/>
            <p:cNvSpPr/>
            <p:nvPr/>
          </p:nvSpPr>
          <p:spPr>
            <a:xfrm>
              <a:off x="2628360" y="4413240"/>
              <a:ext cx="83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accep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6"/>
            <p:cNvGrpSpPr/>
            <p:nvPr/>
          </p:nvGrpSpPr>
          <p:grpSpPr>
            <a:xfrm>
              <a:off x="1268280" y="3649680"/>
              <a:ext cx="2424240" cy="748800"/>
              <a:chOff x="1268280" y="3649680"/>
              <a:chExt cx="2424240" cy="748800"/>
            </a:xfrm>
          </p:grpSpPr>
          <p:sp>
            <p:nvSpPr>
              <p:cNvPr id="95" name="Text Box 8"/>
              <p:cNvSpPr/>
              <p:nvPr/>
            </p:nvSpPr>
            <p:spPr>
              <a:xfrm>
                <a:off x="1268280" y="3649680"/>
                <a:ext cx="82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very po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Text Box 9"/>
              <p:cNvSpPr/>
              <p:nvPr/>
            </p:nvSpPr>
            <p:spPr>
              <a:xfrm>
                <a:off x="2206440" y="3649680"/>
                <a:ext cx="708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margi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Text Box 10"/>
              <p:cNvSpPr/>
              <p:nvPr/>
            </p:nvSpPr>
            <p:spPr>
              <a:xfrm>
                <a:off x="3223800" y="3649680"/>
                <a:ext cx="46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ide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8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1349280" y="3906720"/>
                <a:ext cx="2327400" cy="49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9" name="Rectangle 12"/>
          <p:cNvSpPr/>
          <p:nvPr/>
        </p:nvSpPr>
        <p:spPr>
          <a:xfrm>
            <a:off x="391680" y="6107040"/>
            <a:ext cx="244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Ksenija Zaninović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(DHM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1816200" y="3311640"/>
            <a:ext cx="13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mic Sans MS"/>
              </a:rPr>
              <a:t>Rating 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8" descr=""/>
          <p:cNvPicPr/>
          <p:nvPr/>
        </p:nvPicPr>
        <p:blipFill>
          <a:blip r:embed="rId2"/>
          <a:stretch/>
        </p:blipFill>
        <p:spPr>
          <a:xfrm>
            <a:off x="4105440" y="3060720"/>
            <a:ext cx="4030560" cy="2459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9"/>
          <p:cNvSpPr/>
          <p:nvPr/>
        </p:nvSpPr>
        <p:spPr>
          <a:xfrm>
            <a:off x="5318280" y="565956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mic Sans MS"/>
              </a:rPr>
              <a:t>CIT for cyc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20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104" name="Picture 7" descr="dh-tx"/>
            <p:cNvPicPr/>
            <p:nvPr/>
          </p:nvPicPr>
          <p:blipFill>
            <a:blip r:embed="rId3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" descr="C:\UNDP\CLIM RUN\logo\CLIMRUN Logo only TRANSPARENT.png"/>
            <p:cNvPicPr/>
            <p:nvPr/>
          </p:nvPicPr>
          <p:blipFill>
            <a:blip r:embed="rId4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3" descr="C:\UNDP\undp-dokumentacija\UNDP-Hrvatska logo.JPG"/>
            <p:cNvPicPr/>
            <p:nvPr/>
          </p:nvPicPr>
          <p:blipFill>
            <a:blip r:embed="rId5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108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5"/>
          <p:cNvSpPr/>
          <p:nvPr/>
        </p:nvSpPr>
        <p:spPr>
          <a:xfrm>
            <a:off x="0" y="150840"/>
            <a:ext cx="91440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 development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Examples of C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4"/>
          <a:srcRect l="6296" t="0" r="11805" b="6308"/>
          <a:stretch/>
        </p:blipFill>
        <p:spPr>
          <a:xfrm>
            <a:off x="-146160" y="2281320"/>
            <a:ext cx="5052960" cy="43336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0"/>
          <p:cNvSpPr/>
          <p:nvPr/>
        </p:nvSpPr>
        <p:spPr>
          <a:xfrm>
            <a:off x="352080" y="6553080"/>
            <a:ext cx="244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Ksenija Zaninović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(DHM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0" y="1859040"/>
            <a:ext cx="41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mic Sans MS"/>
              </a:rPr>
              <a:t>One location – various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5394240" y="429588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mic Sans MS"/>
              </a:rPr>
              <a:t>One activity – various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13"/>
          <p:cNvGrpSpPr/>
          <p:nvPr/>
        </p:nvGrpSpPr>
        <p:grpSpPr>
          <a:xfrm>
            <a:off x="4156200" y="685800"/>
            <a:ext cx="4987440" cy="3458880"/>
            <a:chOff x="4156200" y="685800"/>
            <a:chExt cx="4987440" cy="3458880"/>
          </a:xfrm>
        </p:grpSpPr>
        <p:pic>
          <p:nvPicPr>
            <p:cNvPr id="117" name="Picture 14" descr=""/>
            <p:cNvPicPr/>
            <p:nvPr/>
          </p:nvPicPr>
          <p:blipFill>
            <a:blip r:embed="rId5"/>
            <a:srcRect l="0" t="0" r="0" b="2426"/>
            <a:stretch/>
          </p:blipFill>
          <p:spPr>
            <a:xfrm>
              <a:off x="4156200" y="685800"/>
              <a:ext cx="4987440" cy="3458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Group 15"/>
            <p:cNvGrpSpPr/>
            <p:nvPr/>
          </p:nvGrpSpPr>
          <p:grpSpPr>
            <a:xfrm>
              <a:off x="4252320" y="685800"/>
              <a:ext cx="1679400" cy="985320"/>
              <a:chOff x="4252320" y="685800"/>
              <a:chExt cx="1679400" cy="985320"/>
            </a:xfrm>
          </p:grpSpPr>
          <p:pic>
            <p:nvPicPr>
              <p:cNvPr id="119" name="Pictur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4252320" y="685800"/>
                <a:ext cx="1679400" cy="98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Text Box 17"/>
              <p:cNvSpPr/>
              <p:nvPr/>
            </p:nvSpPr>
            <p:spPr>
              <a:xfrm>
                <a:off x="4862520" y="724320"/>
                <a:ext cx="567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Rovin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Group 18"/>
            <p:cNvGrpSpPr/>
            <p:nvPr/>
          </p:nvGrpSpPr>
          <p:grpSpPr>
            <a:xfrm>
              <a:off x="4350960" y="1755360"/>
              <a:ext cx="1675080" cy="987480"/>
              <a:chOff x="4350960" y="1755360"/>
              <a:chExt cx="1675080" cy="987480"/>
            </a:xfrm>
          </p:grpSpPr>
          <p:pic>
            <p:nvPicPr>
              <p:cNvPr id="122" name="Picture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4350960" y="1755360"/>
                <a:ext cx="1675080" cy="98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Text Box 20"/>
              <p:cNvSpPr/>
              <p:nvPr/>
            </p:nvSpPr>
            <p:spPr>
              <a:xfrm>
                <a:off x="4727160" y="1819440"/>
                <a:ext cx="834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Mali Lošin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Group 21"/>
            <p:cNvGrpSpPr/>
            <p:nvPr/>
          </p:nvGrpSpPr>
          <p:grpSpPr>
            <a:xfrm>
              <a:off x="6099480" y="1851480"/>
              <a:ext cx="1679040" cy="991800"/>
              <a:chOff x="6099480" y="1851480"/>
              <a:chExt cx="1679040" cy="991800"/>
            </a:xfrm>
          </p:grpSpPr>
          <p:pic>
            <p:nvPicPr>
              <p:cNvPr id="125" name="Picture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6099480" y="1851480"/>
                <a:ext cx="1679040" cy="99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Text Box 23"/>
              <p:cNvSpPr/>
              <p:nvPr/>
            </p:nvSpPr>
            <p:spPr>
              <a:xfrm>
                <a:off x="6720840" y="1883520"/>
                <a:ext cx="52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Zad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24"/>
            <p:cNvGrpSpPr/>
            <p:nvPr/>
          </p:nvGrpSpPr>
          <p:grpSpPr>
            <a:xfrm>
              <a:off x="5321520" y="2921040"/>
              <a:ext cx="1679040" cy="989280"/>
              <a:chOff x="5321520" y="2921040"/>
              <a:chExt cx="1679040" cy="989280"/>
            </a:xfrm>
          </p:grpSpPr>
          <p:pic>
            <p:nvPicPr>
              <p:cNvPr id="128" name="Picture 25" descr=""/>
              <p:cNvPicPr/>
              <p:nvPr/>
            </p:nvPicPr>
            <p:blipFill>
              <a:blip r:embed="rId9"/>
              <a:stretch/>
            </p:blipFill>
            <p:spPr>
              <a:xfrm>
                <a:off x="5321520" y="2921040"/>
                <a:ext cx="1679040" cy="98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Text Box 26"/>
              <p:cNvSpPr/>
              <p:nvPr/>
            </p:nvSpPr>
            <p:spPr>
              <a:xfrm>
                <a:off x="6014880" y="296568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Hv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Group 27"/>
            <p:cNvGrpSpPr/>
            <p:nvPr/>
          </p:nvGrpSpPr>
          <p:grpSpPr>
            <a:xfrm>
              <a:off x="7361280" y="3115800"/>
              <a:ext cx="1679040" cy="989280"/>
              <a:chOff x="7361280" y="3115800"/>
              <a:chExt cx="1679040" cy="989280"/>
            </a:xfrm>
          </p:grpSpPr>
          <p:pic>
            <p:nvPicPr>
              <p:cNvPr id="131" name="Picture 28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61280" y="3115800"/>
                <a:ext cx="1679040" cy="98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Text Box 29"/>
              <p:cNvSpPr/>
              <p:nvPr/>
            </p:nvSpPr>
            <p:spPr>
              <a:xfrm>
                <a:off x="7823880" y="3173400"/>
                <a:ext cx="807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Dubrovni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30"/>
            <p:cNvSpPr/>
            <p:nvPr/>
          </p:nvSpPr>
          <p:spPr>
            <a:xfrm>
              <a:off x="7461000" y="977040"/>
              <a:ext cx="1060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2060"/>
                  </a:solidFill>
                  <a:latin typeface="Arial"/>
                </a:rPr>
                <a:t>Beach touris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4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135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Rectangle 5"/>
          <p:cNvSpPr/>
          <p:nvPr/>
        </p:nvSpPr>
        <p:spPr>
          <a:xfrm>
            <a:off x="0" y="150840"/>
            <a:ext cx="9144000" cy="61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Other points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Climate change has become a part of Strategy of Croatia’s tour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Strategy to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year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2020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No major, potentially adverse, impacts of climate change on tourism are envisa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Temperature rise may cause positive impact (extended season, increased competitiveness w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southern Mediterranean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Seasonal (monthly) foreca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Energy efficiency of hotels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(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Croatian reality - research covered 47 hote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Hotels associate sustainable construction with an increase in initial inves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Only one hotel monitors the amount of wa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Only one hotel recycles the material from the guest rooms and common 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Water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“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savings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”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- washing machines used even if not fully loa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Heating in 92% of hotels by oil, all swimming pools are heated by o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Cooling installed in 53% of hotels, most surfaces covered in g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No use of energy from renewable source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Development of one mountain res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D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etailed analysis of terrain elevations, orientations of ridges and slopes --&gt; capac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esti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Analysis of solar impact at 9, 12 and 15 local time --&gt; warm and cold z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2:26:48Z</dcterms:created>
  <dc:creator>Čedo Branković</dc:creator>
  <dc:description/>
  <dc:language>en-US</dc:language>
  <cp:lastModifiedBy>cedo</cp:lastModifiedBy>
  <dcterms:modified xsi:type="dcterms:W3CDTF">2013-07-07T20:31:25Z</dcterms:modified>
  <cp:revision>268</cp:revision>
  <dc:subject/>
  <dc:title>No Slide Title</dc:title>
</cp:coreProperties>
</file>